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png" ContentType="image/png"/>
  <Override PartName="/ppt/media/image19.png" ContentType="image/png"/>
  <Override PartName="/ppt/media/image17.wmf" ContentType="image/x-wmf"/>
  <Override PartName="/ppt/media/image16.jpeg" ContentType="image/jpeg"/>
  <Override PartName="/ppt/media/image35.wmf" ContentType="image/x-wmf"/>
  <Override PartName="/ppt/media/image7.jpeg" ContentType="image/jpeg"/>
  <Override PartName="/ppt/media/image28.jpeg" ContentType="image/jpeg"/>
  <Override PartName="/ppt/media/image34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6.png" ContentType="image/png"/>
  <Override PartName="/ppt/media/image5.jpeg" ContentType="image/jpeg"/>
  <Override PartName="/ppt/media/image32.jpeg" ContentType="image/jpeg"/>
  <Override PartName="/ppt/media/image20.wmf" ContentType="image/x-wmf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dt" idx="3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ftr" idx="3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 type="sldNum" idx="3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481F-A94C-44BD-8D04-DB40B4033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54BC-B2DA-443F-8C6F-2C39B2908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3B20-D710-43EE-83D6-E6377A21D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1011-DB4F-4298-8F06-161EF599C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. Приложение, ссылки на литерату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C8B3-793E-40AF-A66E-67F83F0EC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17D0-E90A-4DAC-A3B2-69ECAAA60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D6A36E8-ADA4-41CF-AC8F-C781C88DA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EB60-18F6-434F-A327-D27064BEA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47D5108-B271-465D-A883-50B66F316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8F12-11F9-4432-B5A7-F84670186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289D2E0-1F29-41C1-99C5-45FC2F6D4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BB2D-C65F-4ED7-B048-118411AE6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19F8AFE-532A-4F96-A2B2-616D50C47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599C-EA06-4575-B69C-406BC2276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58FE-DB03-4164-91DB-32728C1F4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1437CC9-FDFC-48E9-95C3-EA5BEE5BB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B581-2181-412D-AD2A-02C7880C3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7932-0BA8-486C-9376-BE7EA61E0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298BD10-9DA7-4D60-A9AE-C4961F6FD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2B3A-8A77-4BCD-89E1-55ECC4E0C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4699-2F9E-4E2B-99CE-03C58F592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C5D109E-662E-474C-999C-523C07595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шлитесь на проблемную ситуаци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ИТЕ: Какие показатели вы выбер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УДИ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аточное обучение персонала новому методу. Удовлетворенность клиентов.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atisfaction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компетентности. Своевременность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0327-9EA4-4996-896E-829D033DE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FA53-F67C-4CCA-A96E-6A6DCC012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е с использованием Бережливости в прилож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F947-90A0-4FFB-8F07-ACE5EFE07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A61E-E1A1-4107-9FA2-006A9B1F7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D2B6-E7B8-481D-A764-E9C4F48970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0BEF-24D8-4AAB-8850-D438610C5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708E6CC-4907-4BAD-8C2A-40D0C9479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ьте В. Эдвардса Деминга – одного из гигантов качест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ложение 15-А содержит все 14 принц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D842-4B79-4727-8158-9D2B20AB2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D176-11EA-4C58-BB44-1D9449A85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7F1C-32AE-4AA4-98C7-DFBB8F207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00D2FAD-C8C1-44F6-A47F-4C7338F20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037D0-AA5E-4F28-872E-2C69AD4C21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02C97-E4E5-4C56-BADA-6B69738FF68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BB3D27-4B58-4D14-81B2-615AD61C563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00BE4E-5D05-490A-9F56-B5FD609F5ED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E4F53E-ABDA-43C1-904C-4BFE8754B9A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A7A2B8-88DC-4997-B184-A145709BF5B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A49C2B-9844-41CF-8564-8CF5904A5E6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1594E6-FC1B-4F2E-A427-A3CE7A86908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CF6B03-03E7-42D3-B1AD-DE50EC3B639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5CCC22-BE64-4B92-B67A-A8C2EE110FA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CB41C7-BDDC-4281-AAA9-E600D2FE999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6F4BC2-9A9D-429E-8063-D1F60DF9B1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1DC65-5325-43CC-AA95-D21F89A3C38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38F44C-FB9C-480A-9917-FA191218697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DA78C2-4844-4E86-B08D-9E46E554D24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25FCA5-B465-40D9-A13A-6AA6231D9B1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A9A15D-BF15-4CA7-834F-40021188F98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3397E6-452F-46D3-8E30-537F45D312C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63647B-1A59-42C9-8BB5-BCE9037DBB4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01A1AF-23FA-4953-BE15-EF52BDD7470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1BCCB4-907F-4B9A-8630-17A51AE69C8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12A27B2-D627-4FF5-AB27-4C4FECBEEAE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EBBF1D-9DB2-416C-BA4A-524EF06EAB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452B7-859E-4C19-A38C-3D6262AB6FC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ECC8A2-A759-4548-8500-97DCE5BA739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42F9A-D1EE-4134-AF02-ABE337E84C9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394E3-3F1E-463A-BF2D-78FF9D8F50B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BD3D3-C139-4037-A5F7-CC8B46C0CA6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EF45B-A718-43AD-B065-006D84556B6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736EB-FEB3-4F57-A5E2-2C7098E4114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5002E-AB2B-4CA3-867E-51A96F61D5B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DB2A0-F637-46C3-9FD0-27866B7A19B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C37B2-0D39-4E12-8BD6-F28C0BF8403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B769E-40EF-49C8-AFA3-73B094C5B9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6A7A-7738-44FA-8E4B-95B3E0033B3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D0E96-33A6-48F7-BE82-FD12D0327E9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8744F-FBF9-4E82-86C7-79286F5391D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E9BEA-A68F-4379-AC88-87141169068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DE5C7B-E48E-46E6-B38E-FCAEF6F0A2E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534517-754A-429F-B862-02CEA1F1551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6F4735-613F-49F5-9ABF-93AA835BCF6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EC5260-0F40-4611-B2A5-F47D52A1452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FDE27B-547B-425E-A6AD-BB4DBA46AA1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1DE611-E3AC-40D8-8952-939218A931C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A40DEE-6389-4A0D-8415-EFF3C46180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5526-9481-4F66-B66F-0F9C48D04FE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2DA51F-600A-4CB6-97A1-94ADAFDA143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3E6536-F2C6-4808-899E-0AFF3B2AF37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F88D84-58F9-4C6A-9764-EE923791986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52AF6C-C783-4369-9BA8-A534C3BFC08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4B7CCF-E9C3-4733-ABE7-2E3ED802A17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188598-BD6B-461A-A322-563026D8E82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98BB07-A291-4B52-8A6E-A47802810A0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B9D428-2D20-4663-85EB-537840BBF2C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AD23A9-9EE0-4A91-8E86-F19747CFC93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22C57F-666B-4367-AC85-5B2E52CBF7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0BA6-7991-4DC3-8EBD-FC7192715BF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6E3FA1-4233-446C-80D9-0B0513E6023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C580DE-87D0-4F57-9AA7-DDE2E386BB0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82C017-A5FA-4EF6-83CF-3B071C9200F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6432BF-739F-4527-9236-FB78E0C39DA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856D77-5655-40D3-8EF4-A4BD5079A32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AA2E3C-296F-452C-97CD-0AEF455F11E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69F42A-9343-454A-9D2C-7DDB878C254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B52A0B-67A1-4C83-AC48-D22F9326D48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C750D2-B2A0-434B-BA85-46047423EB23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A0F2C8-9118-41D6-8448-127AF16BE5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69E1-F215-48C1-982B-A043EA421626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1F501-6513-4835-BFE2-2D9068F7091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FCE3E3-B066-46EE-9CBC-6B76BCB4C8B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DADF5E-53E2-489B-A878-2B58831F30B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590A38-9E08-4F84-A0A5-74C387AAE2A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8D0ADA-8ECB-48E1-AA68-01F563D47FC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6EB126-60DB-42F3-A50E-91396148B82A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873F1B-28EB-4495-AB55-5D23D862F64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9B4ACB-C25C-4364-A958-DCEE8387455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7FBDBE-362B-48C2-BB72-5CA56EA6A02E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49AB97-1385-4699-8361-75C800C8D8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4DF9-1FA4-44C5-95EF-833ADD00ACD2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61BE6D-EA7D-4AF2-B935-C3D7F78FC27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A2EA05-0B2B-4200-AA88-C28590B6392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049309-C8CE-4128-99FD-CDEEE7BA6BF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ECD7AB-3F51-46D4-A3BB-D1CCD204CEA6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4494DD-523C-4BA1-83F9-4179BF48D21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B4B123-F71B-449E-95A4-88103F5784C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B3DE42-7774-4879-9C24-5CFB68935C3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AD5431-E3B2-4F5E-BF17-987323656243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F89505-DEE0-4E76-898C-A645A9BFA1C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BB74E0-6A64-434B-8494-BBC1F57169A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E024-FA75-4830-8A91-3BDBD96C35C5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9A58C96-43E7-41D2-99FF-CAF96A6770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590E-5E75-4731-8DC0-E0A9067AA1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9BAEC-2440-4D6D-93E6-65F2BC06AB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3BFA-E2E9-42B0-9F0F-006F77C164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A7C5-C6D8-45F2-B2C0-D566BAEA15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D048-3B70-4031-B54B-C618AF2542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719A-C388-4554-9345-E76CD26410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8775-3DC1-43E1-AE82-8D2761AAF6D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525BE-AEBA-4190-A95E-78320D761A3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71102-7C12-40EE-8B41-DA3FBBB1A44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5EEAD5-EAE0-43E4-9617-5BD86AB83C1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BC265-9052-4AE0-8DAE-01EB7E7CB44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AE01F3-6B3A-41E2-AC97-B28C1A2B76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01536-6EAF-4BBA-9C00-1FF6A500FC9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684545-FC24-4BE4-94C2-312E225306C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CF4EA3-3788-465C-BF44-A6C90F7B361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8EB5C-4ACB-4E8F-AEDD-C637A12F4C1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4A38C-0A9C-41A4-9DB4-65594522AAF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7D1D8B-80D6-466C-98A8-25C6B2F7E8C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1347A-5B62-4CE0-9CFC-1E7BF1452C2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8B4CE5-E344-42E8-8150-19CD64041A1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AAF2C2-D2E4-429C-B35A-1AC355CAB58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5B3A13-280E-44CA-A81B-B46B68F8168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645590-3F1E-4243-9A78-26E11A8DDA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9C0D3-E312-4615-9EF4-F0EB514C157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CD7A84-37F2-46E3-8DC6-7B734144607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E35899-D92D-4C67-AE20-EFE5FB7BC3D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72E624-DD30-4A0E-8D19-096D9D3E910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D9CDF8-2F8D-49BF-97BA-0348DF043CD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4995FE-3DFE-42BD-8EC9-F8DFBA4DF98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B6221E-7056-45C1-94E9-C65337F4B20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FD75C4-649D-4B10-A7F9-789D1474140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EB0CCD-D924-4871-A3CA-75604F46234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638113-C8C8-4FAB-B512-28B136664D1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7088A-8667-44FE-AD8D-7E73985D6F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33DF4-A042-4A43-9A0B-C2A948A8E1E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8FC6D-AA4B-4CB1-90D6-B2153AA56BF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522C4-0335-4D81-B527-726B9B93B35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70D3D-4C8D-4FF7-B7E3-9B5794AFA43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8AB6E-B20D-471E-A451-285086B31A9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24EDD-DF24-48F1-815D-28919F052AC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F7C68-A41F-461C-987D-4017E0CA137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9C15A-0581-4A5B-A9DC-B359CC3737F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28808-6D9C-4B1C-B425-03C7E9B3C0C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12567-3AAA-4724-8880-395789DF811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17F08-B7AA-467D-A66C-557E966E28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960DA-93B3-4AED-9259-924A449F558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B31C7-0EE6-44BB-83B5-87D1E343B28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7DC8C1-B34E-430D-BA67-45FEBA719DF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02E89F-B347-44DB-80F3-F919F1B93F4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2E6338-903B-455C-BD5E-84002801EF9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91E49C-3661-44E7-92EA-63C2C798B94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623C87-4418-421E-9DFB-996EE6932A8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F50438-8F68-417F-8686-E6F5D1221A2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84146B-506B-477B-8FB2-ED877A94835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BBD678-C982-4E88-902F-6F4A59D60A6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CAE347-8D63-46D5-8A2B-606E0037DC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CCB6A-846A-4E86-84F6-0FACE496BA8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2532DC-A503-4046-966E-4EB7FC4DBDE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AD91D1-1F63-40F9-B08A-82A4B6E420D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6217D4-9DCD-4C4D-8DD4-9E4798ED806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EBB323-7754-4D9B-8C94-2C19B35D011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F6AED4-B258-4DB5-AB11-4A24C1137D7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15E7A3-6233-4E0A-855F-DE7915FDFDE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3D54A0-09AC-4672-9443-FB3CDF201FC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D76147-F949-4124-B25E-15960EEB39B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F6C43A-DC46-4C15-B088-E928622DEB1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FE135E-A4C5-4748-A9BE-E0DC3522C8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A8D85-84CC-4E0D-8B95-DAF0AB42B9A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2ABD1A-70F3-4843-9AFA-FC081B82C45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306CD9-7929-4799-B072-EB21B3A07F7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F60D14-94C7-45CF-A8D8-321800F569C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8BFE9A-961B-409A-8055-AA1A8E3CBDF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8224D9-8C88-4315-A271-39F2E5BA97E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7BD6C-8DA0-4DDD-9117-21009780023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EC21D-F171-420C-BB98-B8A92D2AA8F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F179C-6DEA-4EA7-B4CD-FE102D86450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027CF-3176-4679-9A12-44E5CB70442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D658C-F14F-4C12-BEFB-9DBEF5929C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00EFB-0FBF-479D-AA27-CC0B9584D84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5B075-F626-414B-A85F-D8471271A2F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0643D-CEF4-4104-B18E-F0E744C6D81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32759-6648-4A18-957C-FC9EA17D1C6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CD417-9D64-4BCE-8C22-015EA76CD2D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7316C-0926-4F54-8D9F-9FC5412A050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9EAA9-3472-48F9-A25A-1FCF9F5CAEB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091B1-01C7-4028-8EDB-0B1576BC629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3DA24E-2FEE-4C84-B4E8-0A97BF62A4D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F4838B-F837-4F8E-A327-E6218F3A228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7DFBD3-FD66-4E0E-BDDC-4A96874A5C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B748-254D-499F-8A27-A3260E419F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ftr" idx="1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sldNum" idx="1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7C1A-9EF6-44F8-BA84-AF9B4F44A0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ftr" idx="20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sldNum" idx="21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A914-4170-459F-8BA5-6C9C413200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ftr" idx="22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sldNum" idx="2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2835-E3E6-4F22-AE1D-E5AC67E870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ftr" idx="2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sldNum" idx="2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E53F-7F28-4B66-9725-0ABBF56A80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ftr" idx="2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sldNum" idx="2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7688-F483-4F31-810C-9B5E19FFA2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ftr" idx="2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sldNum" idx="2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F759-1788-48FD-AB81-2F0E0BFB8B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EF6B-4C8C-4D9E-BD80-F9BB04A9EF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ftr" idx="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A55D-9C51-4C0C-94D7-031CEF2CCC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1CDB-5306-43B8-B051-ADE0FDB0E4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6D28-048B-4C2B-8D25-24CDDAA5CC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ftr" idx="10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sldNum" idx="11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F6B9-B943-4EB5-BE2B-8D28140455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ftr" idx="12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sldNum" idx="1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BB74-C0E2-4178-B055-B0887A517B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1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1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6BA4-754C-4FA0-BFBD-41DA62AC46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ftr" idx="1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sldNum" idx="1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156A-4A2D-42DF-A86E-7E95DB85D4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6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6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76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Text Box 16"/>
          <p:cNvSpPr/>
          <p:nvPr/>
        </p:nvSpPr>
        <p:spPr>
          <a:xfrm>
            <a:off x="3200400" y="2209680"/>
            <a:ext cx="518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лучшение процес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89D7-E9C7-4705-8C90-C25CD4A08F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Picture 4" descr="j0399245"/>
          <p:cNvPicPr/>
          <p:nvPr/>
        </p:nvPicPr>
        <p:blipFill>
          <a:blip r:embed="rId1"/>
          <a:stretch/>
        </p:blipFill>
        <p:spPr>
          <a:xfrm>
            <a:off x="4495680" y="1219320"/>
            <a:ext cx="3353040" cy="24717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9" descr="lab pic"/>
          <p:cNvPicPr/>
          <p:nvPr/>
        </p:nvPicPr>
        <p:blipFill>
          <a:blip r:embed="rId2"/>
          <a:stretch/>
        </p:blipFill>
        <p:spPr>
          <a:xfrm>
            <a:off x="1219320" y="1219320"/>
            <a:ext cx="3289320" cy="23493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0" descr="Equipment_3"/>
          <p:cNvPicPr/>
          <p:nvPr/>
        </p:nvPicPr>
        <p:blipFill>
          <a:blip r:embed="rId3"/>
          <a:srcRect l="0" t="0" r="16286" b="0"/>
          <a:stretch/>
        </p:blipFill>
        <p:spPr>
          <a:xfrm>
            <a:off x="4114800" y="3276720"/>
            <a:ext cx="3733920" cy="3047760"/>
          </a:xfrm>
          <a:prstGeom prst="rect">
            <a:avLst/>
          </a:prstGeom>
          <a:ln w="0">
            <a:noFill/>
          </a:ln>
        </p:spPr>
      </p:pic>
      <p:sp>
        <p:nvSpPr>
          <p:cNvPr id="931" name="Text Box 11"/>
          <p:cNvSpPr/>
          <p:nvPr/>
        </p:nvSpPr>
        <p:spPr>
          <a:xfrm>
            <a:off x="1143000" y="320040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12"/>
          <p:cNvSpPr/>
          <p:nvPr/>
        </p:nvSpPr>
        <p:spPr>
          <a:xfrm>
            <a:off x="1219320" y="3276720"/>
            <a:ext cx="3276360" cy="304776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тимизаци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странств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ремен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ля улучшения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транственно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рганизации процесс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4"/>
          <p:cNvSpPr/>
          <p:nvPr/>
        </p:nvSpPr>
        <p:spPr>
          <a:xfrm>
            <a:off x="457200" y="1182600"/>
            <a:ext cx="4267080" cy="642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Бережлив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Content Placeholder 106514"/>
          <p:cNvGrpSpPr/>
          <p:nvPr/>
        </p:nvGrpSpPr>
        <p:grpSpPr>
          <a:xfrm>
            <a:off x="2438280" y="1822320"/>
            <a:ext cx="4876560" cy="3206520"/>
            <a:chOff x="2438280" y="1822320"/>
            <a:chExt cx="4876560" cy="3206520"/>
          </a:xfrm>
        </p:grpSpPr>
        <p:sp>
          <p:nvSpPr>
            <p:cNvPr id="935" name="_s3076"/>
            <p:cNvSpPr/>
            <p:nvPr/>
          </p:nvSpPr>
          <p:spPr>
            <a:xfrm>
              <a:off x="3218400" y="1822320"/>
              <a:ext cx="3315600" cy="2180160"/>
            </a:xfrm>
            <a:custGeom>
              <a:avLst/>
              <a:gdLst>
                <a:gd name="textAreaLeft" fmla="*/ 485640 w 3315600"/>
                <a:gd name="textAreaRight" fmla="*/ 2829960 w 3315600"/>
                <a:gd name="textAreaTop" fmla="*/ 319320 h 2180160"/>
                <a:gd name="textAreaBottom" fmla="*/ 1860840 h 218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_s3077"/>
            <p:cNvSpPr/>
            <p:nvPr/>
          </p:nvSpPr>
          <p:spPr>
            <a:xfrm rot="5400000">
              <a:off x="4566960" y="1767600"/>
              <a:ext cx="2180160" cy="3315600"/>
            </a:xfrm>
            <a:custGeom>
              <a:avLst/>
              <a:gdLst>
                <a:gd name="textAreaLeft" fmla="*/ 319320 w 2180160"/>
                <a:gd name="textAreaRight" fmla="*/ 1860840 w 2180160"/>
                <a:gd name="textAreaTop" fmla="*/ 485640 h 3315600"/>
                <a:gd name="textAreaBottom" fmla="*/ 2829960 h 331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_s3078"/>
            <p:cNvSpPr/>
            <p:nvPr/>
          </p:nvSpPr>
          <p:spPr>
            <a:xfrm rot="10800000">
              <a:off x="3218400" y="2848320"/>
              <a:ext cx="3315600" cy="2180160"/>
            </a:xfrm>
            <a:custGeom>
              <a:avLst/>
              <a:gdLst>
                <a:gd name="textAreaLeft" fmla="*/ 485640 w 3315600"/>
                <a:gd name="textAreaRight" fmla="*/ 2829960 w 3315600"/>
                <a:gd name="textAreaTop" fmla="*/ 319320 h 2180160"/>
                <a:gd name="textAreaBottom" fmla="*/ 1860840 h 218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_s3079"/>
            <p:cNvSpPr/>
            <p:nvPr/>
          </p:nvSpPr>
          <p:spPr>
            <a:xfrm rot="16200000">
              <a:off x="3006000" y="1767960"/>
              <a:ext cx="2180160" cy="3315600"/>
            </a:xfrm>
            <a:custGeom>
              <a:avLst/>
              <a:gdLst>
                <a:gd name="textAreaLeft" fmla="*/ 319320 w 2180160"/>
                <a:gd name="textAreaRight" fmla="*/ 1860840 w 2180160"/>
                <a:gd name="textAreaTop" fmla="*/ 485640 h 3315600"/>
                <a:gd name="textAreaBottom" fmla="*/ 2829960 h 331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8a8ae6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_s3080"/>
            <p:cNvSpPr/>
            <p:nvPr/>
          </p:nvSpPr>
          <p:spPr>
            <a:xfrm>
              <a:off x="5759640" y="202248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_s3081"/>
            <p:cNvSpPr/>
            <p:nvPr/>
          </p:nvSpPr>
          <p:spPr>
            <a:xfrm>
              <a:off x="2746440" y="400788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_s3082"/>
            <p:cNvSpPr/>
            <p:nvPr/>
          </p:nvSpPr>
          <p:spPr>
            <a:xfrm>
              <a:off x="2742480" y="202500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_s3083"/>
            <p:cNvSpPr/>
            <p:nvPr/>
          </p:nvSpPr>
          <p:spPr>
            <a:xfrm>
              <a:off x="5761440" y="400500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Text Box 29"/>
          <p:cNvSpPr/>
          <p:nvPr/>
        </p:nvSpPr>
        <p:spPr>
          <a:xfrm>
            <a:off x="45720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овые инструменты улуч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AC5F-9097-46D6-BD68-B8403D5B76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6" name="Picture 6" descr="lean_5_spag"/>
          <p:cNvPicPr/>
          <p:nvPr/>
        </p:nvPicPr>
        <p:blipFill>
          <a:blip r:embed="rId1"/>
          <a:stretch/>
        </p:blipFill>
        <p:spPr>
          <a:xfrm>
            <a:off x="4724280" y="1447920"/>
            <a:ext cx="4191120" cy="48006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4" descr="lean_4_spag"/>
          <p:cNvPicPr/>
          <p:nvPr/>
        </p:nvPicPr>
        <p:blipFill>
          <a:blip r:embed="rId2"/>
          <a:stretch/>
        </p:blipFill>
        <p:spPr>
          <a:xfrm>
            <a:off x="533520" y="1523880"/>
            <a:ext cx="4343400" cy="4724640"/>
          </a:xfrm>
          <a:prstGeom prst="rect">
            <a:avLst/>
          </a:prstGeom>
          <a:ln w="0">
            <a:noFill/>
          </a:ln>
        </p:spPr>
      </p:pic>
      <p:sp>
        <p:nvSpPr>
          <p:cNvPr id="948" name="Text Box 5"/>
          <p:cNvSpPr/>
          <p:nvPr/>
        </p:nvSpPr>
        <p:spPr>
          <a:xfrm>
            <a:off x="533520" y="533520"/>
            <a:ext cx="83818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ути передвижения лаборанта во время выполнения работы при культивировании 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7"/>
          <p:cNvSpPr/>
          <p:nvPr/>
        </p:nvSpPr>
        <p:spPr>
          <a:xfrm>
            <a:off x="533520" y="1143000"/>
            <a:ext cx="8381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До «Бережливости»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             </a:t>
            </a: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После «Бережливост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533160" y="1523520"/>
            <a:ext cx="7848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Шесть сиг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428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  <a:ea typeface="Verdana"/>
              </a:rPr>
              <a:t>Формальная структура планирования проектов для внедрения изменений и улучшений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1988-40AE-4EF1-A683-C571DE040E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3" name="Picture 9" descr="six-sigma"/>
          <p:cNvPicPr/>
          <p:nvPr/>
        </p:nvPicPr>
        <p:blipFill>
          <a:blip r:embed="rId1"/>
          <a:stretch/>
        </p:blipFill>
        <p:spPr>
          <a:xfrm>
            <a:off x="4400640" y="4191120"/>
            <a:ext cx="2990880" cy="20001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54" name="Text Box 29"/>
          <p:cNvSpPr/>
          <p:nvPr/>
        </p:nvSpPr>
        <p:spPr>
          <a:xfrm>
            <a:off x="457200" y="457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овые инструменты улуч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6430-132A-4861-8819-28CBC482F3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труктура в «Шести сигмах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ссы организованы так, чтобы помочь  в принятии решений для непрерывного улучш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овер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предел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змер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нализиру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лучш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9" name="Picture 8" descr="six_sigma_idea"/>
          <p:cNvPicPr/>
          <p:nvPr/>
        </p:nvPicPr>
        <p:blipFill>
          <a:blip r:embed="rId1"/>
          <a:stretch/>
        </p:blipFill>
        <p:spPr>
          <a:xfrm>
            <a:off x="5276880" y="2743200"/>
            <a:ext cx="3570120" cy="3581280"/>
          </a:xfrm>
          <a:prstGeom prst="rect">
            <a:avLst/>
          </a:prstGeom>
          <a:ln w="0">
            <a:noFill/>
          </a:ln>
        </p:spPr>
      </p:pic>
      <p:sp>
        <p:nvSpPr>
          <p:cNvPr id="960" name="AutoShape 6"/>
          <p:cNvSpPr/>
          <p:nvPr/>
        </p:nvSpPr>
        <p:spPr>
          <a:xfrm rot="16863600">
            <a:off x="3222720" y="3022200"/>
            <a:ext cx="4343400" cy="2133720"/>
          </a:xfrm>
          <a:custGeom>
            <a:avLst/>
            <a:gdLst>
              <a:gd name="textAreaLeft" fmla="*/ 759960 w 4343400"/>
              <a:gd name="textAreaRight" fmla="*/ 3148920 w 4343400"/>
              <a:gd name="textAreaTop" fmla="*/ 285840 h 2133720"/>
              <a:gd name="textAreaBottom" fmla="*/ 18478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1013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Box 1"/>
          <p:cNvSpPr/>
          <p:nvPr/>
        </p:nvSpPr>
        <p:spPr>
          <a:xfrm>
            <a:off x="6381720" y="3429000"/>
            <a:ext cx="13143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ров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8"/>
          <p:cNvSpPr/>
          <p:nvPr/>
        </p:nvSpPr>
        <p:spPr>
          <a:xfrm>
            <a:off x="7237080" y="4038480"/>
            <a:ext cx="13924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пред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Box 9"/>
          <p:cNvSpPr/>
          <p:nvPr/>
        </p:nvSpPr>
        <p:spPr>
          <a:xfrm>
            <a:off x="7130880" y="4964040"/>
            <a:ext cx="14796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Изм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10"/>
          <p:cNvSpPr/>
          <p:nvPr/>
        </p:nvSpPr>
        <p:spPr>
          <a:xfrm>
            <a:off x="5486400" y="4979880"/>
            <a:ext cx="17906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Анализиру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Box 11"/>
          <p:cNvSpPr/>
          <p:nvPr/>
        </p:nvSpPr>
        <p:spPr>
          <a:xfrm>
            <a:off x="5486400" y="3973680"/>
            <a:ext cx="15238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Улуч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2F91-672B-4AFC-9966-E9305CAE61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533160" y="464760"/>
            <a:ext cx="6019560" cy="60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Что есть качество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9" name="Rectangle 3"/>
          <p:cNvSpPr/>
          <p:nvPr/>
        </p:nvSpPr>
        <p:spPr>
          <a:xfrm>
            <a:off x="609480" y="113040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«Качество – эт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оответствие требованиям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доброкачественн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тонченн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».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Picture 4" descr="Philip Crosby photo"/>
          <p:cNvPicPr/>
          <p:nvPr/>
        </p:nvPicPr>
        <p:blipFill>
          <a:blip r:embed="rId1"/>
          <a:stretch/>
        </p:blipFill>
        <p:spPr>
          <a:xfrm>
            <a:off x="533520" y="3429000"/>
            <a:ext cx="1993680" cy="2590920"/>
          </a:xfrm>
          <a:prstGeom prst="rect">
            <a:avLst/>
          </a:prstGeom>
          <a:ln w="0">
            <a:noFill/>
          </a:ln>
        </p:spPr>
      </p:pic>
      <p:sp>
        <p:nvSpPr>
          <p:cNvPr id="971" name="Text Box 5"/>
          <p:cNvSpPr/>
          <p:nvPr/>
        </p:nvSpPr>
        <p:spPr>
          <a:xfrm>
            <a:off x="2590920" y="3809880"/>
            <a:ext cx="5029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илип Кросб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тыре основных принципа управления каче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9407-B6D7-4CAA-9AF3-3F6887032D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5345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пределение показателя ка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становленный критерий, используемый для определения того, насколько хорошо организация выполняет запросы и соответствует ожиданиям по проведению работы.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9001: 2000 (5.4.1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; 8.4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15189:200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(4.12.4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4904-614B-4935-B7BF-070A862231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448920"/>
            <a:ext cx="59436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Таким образом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…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 качеств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дают информацию об эффективности рабо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пределяют кач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ыявляют проблемные участ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пределяют участки, которые необходимо дополнительно изучи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ледят за динамикой изменени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28DA-8C7B-4587-B910-8162F005B0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ля оценки работы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380520" y="1174320"/>
            <a:ext cx="853452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лучше меньше показателей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ивяжите к факторам, требующимся для успех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снованы на потребностях клиентов и других заинтересованных сторо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ачните с руководства и двигайтесь вниз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заменяйте в соответствии с внешними переменами и изменениями в стратег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станавливайте цели и задачи на основе исследований, а не на произвольных оценк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Марк Грэм Брау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CA4C-3FA3-4700-9AC4-965BD25447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осемь шагов на пути разработки работающих показател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762120" y="1568160"/>
            <a:ext cx="441936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цел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метод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еделы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интерпретац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гранич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едставление информац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лан действи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лан заверш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8" name="Picture 4" descr="j0427771"/>
          <p:cNvPicPr/>
          <p:nvPr/>
        </p:nvPicPr>
        <p:blipFill>
          <a:blip r:embed="rId1"/>
          <a:stretch/>
        </p:blipFill>
        <p:spPr>
          <a:xfrm>
            <a:off x="5192640" y="1676520"/>
            <a:ext cx="3570480" cy="4419360"/>
          </a:xfrm>
          <a:prstGeom prst="rect">
            <a:avLst/>
          </a:prstGeom>
          <a:ln w="57240">
            <a:solidFill>
              <a:srgbClr val="00007d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9F74-DDA7-4C44-9A7A-FB42D47780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БОЛЬШОЙ СЕКРЕТ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ля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команды по показателям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228600" y="2437920"/>
            <a:ext cx="4572000" cy="31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овлеките народ, который делает работу, потому что они знают, что они делают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3" name="Picture 8" descr="laboratory_botswana"/>
          <p:cNvPicPr/>
          <p:nvPr/>
        </p:nvPicPr>
        <p:blipFill>
          <a:blip r:embed="rId1"/>
          <a:srcRect l="0" t="0" r="30479" b="0"/>
          <a:stretch/>
        </p:blipFill>
        <p:spPr>
          <a:xfrm>
            <a:off x="5029200" y="2133720"/>
            <a:ext cx="35784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2058-18C3-4C0F-B45E-0009D098EF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533520" y="1441080"/>
            <a:ext cx="822960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 окончании данной части курса участники смогу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ередать историю улучшения процесс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бъяснить значение улучшения процессов для поддержания качеств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бъяснить потребность в средствах контроля лабораторных процесс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Rectangle 2"/>
          <p:cNvSpPr/>
          <p:nvPr/>
        </p:nvSpPr>
        <p:spPr>
          <a:xfrm>
            <a:off x="457200" y="43704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1008-2EE1-4E65-9B15-87D46C6E8C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4902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арактеристик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997" name="Diagram 25"/>
          <p:cNvGrpSpPr/>
          <p:nvPr/>
        </p:nvGrpSpPr>
        <p:grpSpPr>
          <a:xfrm>
            <a:off x="457200" y="1143000"/>
            <a:ext cx="8457840" cy="5159160"/>
            <a:chOff x="457200" y="1143000"/>
            <a:chExt cx="8457840" cy="5159160"/>
          </a:xfrm>
        </p:grpSpPr>
        <p:sp>
          <p:nvSpPr>
            <p:cNvPr id="998" name="AutoShape 26"/>
            <p:cNvSpPr/>
            <p:nvPr/>
          </p:nvSpPr>
          <p:spPr>
            <a:xfrm>
              <a:off x="457200" y="1143000"/>
              <a:ext cx="8457840" cy="5159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_s4100"/>
            <p:cNvSpPr/>
            <p:nvPr/>
          </p:nvSpPr>
          <p:spPr>
            <a:xfrm flipH="1" flipV="1">
              <a:off x="2941920" y="2920320"/>
              <a:ext cx="798120" cy="39780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_s4101"/>
            <p:cNvSpPr/>
            <p:nvPr/>
          </p:nvSpPr>
          <p:spPr>
            <a:xfrm>
              <a:off x="837720" y="1524240"/>
              <a:ext cx="2890440" cy="1523880"/>
            </a:xfrm>
            <a:prstGeom prst="ellipse">
              <a:avLst/>
            </a:prstGeom>
            <a:solidFill>
              <a:srgbClr val="8989e5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Привяз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ко времен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раткосрочные и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долгосрочн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_s4102"/>
            <p:cNvSpPr/>
            <p:nvPr/>
          </p:nvSpPr>
          <p:spPr>
            <a:xfrm flipH="1">
              <a:off x="2552760" y="3863160"/>
              <a:ext cx="989280" cy="1465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_s4103"/>
            <p:cNvSpPr/>
            <p:nvPr/>
          </p:nvSpPr>
          <p:spPr>
            <a:xfrm>
              <a:off x="609120" y="3200400"/>
              <a:ext cx="2363040" cy="1294200"/>
            </a:xfrm>
            <a:prstGeom prst="ellipse">
              <a:avLst/>
            </a:prstGeom>
            <a:solidFill>
              <a:srgbClr val="7a7acc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хватывающ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все уровн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_s4104"/>
            <p:cNvSpPr/>
            <p:nvPr/>
          </p:nvSpPr>
          <p:spPr>
            <a:xfrm flipH="1">
              <a:off x="3047040" y="4344840"/>
              <a:ext cx="681120" cy="9367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_s4105"/>
            <p:cNvSpPr/>
            <p:nvPr/>
          </p:nvSpPr>
          <p:spPr>
            <a:xfrm>
              <a:off x="837720" y="4724280"/>
              <a:ext cx="2896200" cy="1287000"/>
            </a:xfrm>
            <a:prstGeom prst="ellipse">
              <a:avLst/>
            </a:prstGeom>
            <a:solidFill>
              <a:srgbClr val="8282d9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Сбалансиров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полный цик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_s4106"/>
            <p:cNvSpPr/>
            <p:nvPr/>
          </p:nvSpPr>
          <p:spPr>
            <a:xfrm>
              <a:off x="4978440" y="4300200"/>
              <a:ext cx="532440" cy="75528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_s4108"/>
            <p:cNvSpPr/>
            <p:nvPr/>
          </p:nvSpPr>
          <p:spPr>
            <a:xfrm>
              <a:off x="5524920" y="3863160"/>
              <a:ext cx="992880" cy="14256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_s4109"/>
            <p:cNvSpPr/>
            <p:nvPr/>
          </p:nvSpPr>
          <p:spPr>
            <a:xfrm>
              <a:off x="5854320" y="3809520"/>
              <a:ext cx="2984400" cy="1294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нтерпретируем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конкрет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_s4110"/>
            <p:cNvSpPr/>
            <p:nvPr/>
          </p:nvSpPr>
          <p:spPr>
            <a:xfrm flipV="1">
              <a:off x="5326920" y="2744640"/>
              <a:ext cx="1120680" cy="57384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_s4111"/>
            <p:cNvSpPr/>
            <p:nvPr/>
          </p:nvSpPr>
          <p:spPr>
            <a:xfrm>
              <a:off x="6079320" y="1903680"/>
              <a:ext cx="2488680" cy="1288800"/>
            </a:xfrm>
            <a:prstGeom prst="ellipse">
              <a:avLst/>
            </a:pr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Доступ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четко очерчен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_s4112"/>
            <p:cNvSpPr/>
            <p:nvPr/>
          </p:nvSpPr>
          <p:spPr>
            <a:xfrm flipV="1">
              <a:off x="4533840" y="2477520"/>
              <a:ext cx="468720" cy="6001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_s4113"/>
            <p:cNvSpPr/>
            <p:nvPr/>
          </p:nvSpPr>
          <p:spPr>
            <a:xfrm>
              <a:off x="3886200" y="1218240"/>
              <a:ext cx="2193120" cy="1290960"/>
            </a:xfrm>
            <a:prstGeom prst="ellipse">
              <a:avLst/>
            </a:pr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змеряем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бъектив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_s4114"/>
            <p:cNvSpPr/>
            <p:nvPr/>
          </p:nvSpPr>
          <p:spPr>
            <a:xfrm>
              <a:off x="3429360" y="2742840"/>
              <a:ext cx="2513520" cy="20574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Хорошие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показатели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качества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_s4107"/>
            <p:cNvSpPr/>
            <p:nvPr/>
          </p:nvSpPr>
          <p:spPr>
            <a:xfrm>
              <a:off x="4238280" y="4800600"/>
              <a:ext cx="2391480" cy="1425600"/>
            </a:xfrm>
            <a:prstGeom prst="ellipse">
              <a:avLst/>
            </a:prstGeom>
            <a:solidFill>
              <a:srgbClr val="8d8deb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уковод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к действи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риентирова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на работ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BA84-3F4D-460C-B9CB-DDCFAAE921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5257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одведение итог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04920" y="1387440"/>
            <a:ext cx="853416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«Многие организации тратят тысячи часов на сбор и интерпретацию данных. Однако большая часть этого времени оказывается потраченной впустую, потому что анализируются неправильные измерения, что ведет к принятию неправильных решений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Text Box 4"/>
          <p:cNvSpPr/>
          <p:nvPr/>
        </p:nvSpPr>
        <p:spPr>
          <a:xfrm>
            <a:off x="990720" y="4648320"/>
            <a:ext cx="7772400" cy="14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арк Грэм Браун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Использование правильных метрик для достижения высокого класса работы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723096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Компьютерные показатели бессмыслиц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2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FBA9-E2D4-4825-A2BD-39F724AAE9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4"/>
          <p:cNvSpPr/>
          <p:nvPr/>
        </p:nvSpPr>
        <p:spPr>
          <a:xfrm>
            <a:off x="2721960" y="1839960"/>
            <a:ext cx="42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льтура моч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юкоз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"/>
          <p:cNvSpPr/>
          <p:nvPr/>
        </p:nvSpPr>
        <p:spPr>
          <a:xfrm>
            <a:off x="2590920" y="2322360"/>
            <a:ext cx="48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6"/>
          <p:cNvSpPr/>
          <p:nvPr/>
        </p:nvSpPr>
        <p:spPr>
          <a:xfrm>
            <a:off x="3062160" y="2398680"/>
            <a:ext cx="39481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тнес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 baseline="-12000">
                <a:solidFill>
                  <a:srgbClr val="000000"/>
                </a:solidFill>
                <a:latin typeface="Arial"/>
              </a:rPr>
              <a:t>ча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ефон </a:t>
            </a:r>
            <a:r>
              <a:rPr b="1" lang="ru-RU" sz="1800" spc="-1" strike="noStrike" baseline="-12000">
                <a:solidFill>
                  <a:srgbClr val="000000"/>
                </a:solidFill>
                <a:latin typeface="Arial"/>
              </a:rPr>
              <a:t>минут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7"/>
          <p:cNvSpPr/>
          <p:nvPr/>
        </p:nvSpPr>
        <p:spPr>
          <a:xfrm>
            <a:off x="7094160" y="200808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8"/>
          <p:cNvSpPr/>
          <p:nvPr/>
        </p:nvSpPr>
        <p:spPr>
          <a:xfrm>
            <a:off x="4724280" y="3697200"/>
            <a:ext cx="3962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Только потому что компьютер может что</a:t>
            </a:r>
            <a:r>
              <a:rPr b="0" i="1" lang="ru-RU" sz="2800" spc="-1" strike="noStrike">
                <a:solidFill>
                  <a:srgbClr val="ff3300"/>
                </a:solidFill>
                <a:latin typeface="Verdana"/>
              </a:rPr>
              <a:t>-</a:t>
            </a: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то посчитать</a:t>
            </a:r>
            <a:r>
              <a:rPr b="1" i="1" lang="en-US" sz="2800" spc="-1" strike="noStrike">
                <a:solidFill>
                  <a:srgbClr val="ff3300"/>
                </a:solidFill>
                <a:latin typeface="Lucida Calligraphy"/>
              </a:rPr>
              <a:t>,</a:t>
            </a: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 это не значит, что это стоит делать</a:t>
            </a:r>
            <a:r>
              <a:rPr b="1" i="1" lang="en-US" sz="2800" spc="-1" strike="noStrike">
                <a:solidFill>
                  <a:srgbClr val="ff3300"/>
                </a:solidFill>
                <a:latin typeface="Lucida Calligraph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7" name="Picture 9" descr="j0290897[1]"/>
          <p:cNvPicPr/>
          <p:nvPr/>
        </p:nvPicPr>
        <p:blipFill>
          <a:blip r:embed="rId1"/>
          <a:stretch/>
        </p:blipFill>
        <p:spPr>
          <a:xfrm rot="20365800">
            <a:off x="609120" y="2398320"/>
            <a:ext cx="396252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Примеры показателей качеств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1029" name=""/>
          <p:cNvGraphicFramePr/>
          <p:nvPr/>
        </p:nvGraphicFramePr>
        <p:xfrm>
          <a:off x="380880" y="1160640"/>
          <a:ext cx="8458200" cy="5011560"/>
        </p:xfrm>
        <a:graphic>
          <a:graphicData uri="http://schemas.openxmlformats.org/drawingml/2006/table">
            <a:tbl>
              <a:tblPr/>
              <a:tblGrid>
                <a:gridCol w="2076480"/>
                <a:gridCol w="1781280"/>
                <a:gridCol w="2595600"/>
                <a:gridCol w="2004840"/>
              </a:tblGrid>
              <a:tr h="1326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исте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Исследование</a:t>
                      </a:r>
                      <a:r>
                        <a:rPr b="0" lang="en-US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сл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135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 соответствие запроса на анал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дентификации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правильность анализов, выполненных рядом с пациент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отчеты о критических значениях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время обор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удовлетворенность медицинского персон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нформации о проб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корреляция цитологии и биопсии шейки ма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удовлетворенность медицинского персон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полнительные сообщения от мед.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полнительные сообщения от мед.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мониторинг диабета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скрининг гиперлипидем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контаминация культур кров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0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241A-5C70-4A14-8FB0-3A31D13A84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Object 4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772400" cy="4475160"/>
          </a:xfrm>
          <a:prstGeom prst="rect">
            <a:avLst/>
          </a:prstGeom>
          <a:ln w="0">
            <a:noFill/>
          </a:ln>
        </p:spPr>
      </p:pic>
      <p:sp>
        <p:nvSpPr>
          <p:cNvPr id="1033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20DA-18D8-46D5-976C-2AD8E09C53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8"/>
          <p:cNvSpPr/>
          <p:nvPr/>
        </p:nvSpPr>
        <p:spPr>
          <a:xfrm>
            <a:off x="2438280" y="45720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9"/>
          <p:cNvSpPr/>
          <p:nvPr/>
        </p:nvSpPr>
        <p:spPr>
          <a:xfrm>
            <a:off x="533520" y="5335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ычно отслеживаемые показател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%)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 Box 11"/>
          <p:cNvSpPr/>
          <p:nvPr/>
        </p:nvSpPr>
        <p:spPr>
          <a:xfrm>
            <a:off x="685800" y="5562720"/>
            <a:ext cx="77724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сылка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Hilborne L. Developing a core set of laboratory based quality indicators.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QLM Conference; 2005 Apr 29.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зработка основного набора показателей качества для лаборатории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A9BB-E6C2-4FF8-B96B-F598074592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4076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Осторожно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еоретическ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, привязанные к результатам лечения пациентов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являютс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аиболее информативны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о их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уднее всего измеря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лишком много перемен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ебуется большое количество данны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ебуется собирать в течение длительного време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2" name="Text Box 4"/>
          <p:cNvSpPr/>
          <p:nvPr/>
        </p:nvSpPr>
        <p:spPr>
          <a:xfrm>
            <a:off x="838080" y="4724280"/>
            <a:ext cx="784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vid H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dicare Quality Improvement, Bad Apples or Bad Systems?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лучшение качества системы медицинского обслуживания пенсионеров, плохие яблоки или плохая система?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JAMA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2003;289:354-35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Oval 2"/>
          <p:cNvSpPr/>
          <p:nvPr/>
        </p:nvSpPr>
        <p:spPr>
          <a:xfrm>
            <a:off x="4952880" y="1600200"/>
            <a:ext cx="3962520" cy="37339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4" name="Diagram 3"/>
          <p:cNvGrpSpPr/>
          <p:nvPr/>
        </p:nvGrpSpPr>
        <p:grpSpPr>
          <a:xfrm>
            <a:off x="4674240" y="1371600"/>
            <a:ext cx="4465800" cy="4572000"/>
            <a:chOff x="4674240" y="1371600"/>
            <a:chExt cx="4465800" cy="4572000"/>
          </a:xfrm>
        </p:grpSpPr>
        <p:sp>
          <p:nvSpPr>
            <p:cNvPr id="1045" name="AutoShape 4"/>
            <p:cNvSpPr/>
            <p:nvPr/>
          </p:nvSpPr>
          <p:spPr>
            <a:xfrm>
              <a:off x="4876920" y="1371600"/>
              <a:ext cx="405756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_s5124"/>
            <p:cNvSpPr/>
            <p:nvPr/>
          </p:nvSpPr>
          <p:spPr>
            <a:xfrm>
              <a:off x="5595840" y="1714680"/>
              <a:ext cx="2621160" cy="2954160"/>
            </a:xfrm>
            <a:custGeom>
              <a:avLst/>
              <a:gdLst>
                <a:gd name="textAreaLeft" fmla="*/ 384120 w 2621160"/>
                <a:gd name="textAreaRight" fmla="*/ 2237040 w 2621160"/>
                <a:gd name="textAreaTop" fmla="*/ 433440 h 2954160"/>
                <a:gd name="textAreaBottom" fmla="*/ 2520720 h 295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_s5125"/>
            <p:cNvSpPr/>
            <p:nvPr/>
          </p:nvSpPr>
          <p:spPr>
            <a:xfrm rot="7200000">
              <a:off x="5788800" y="2578680"/>
              <a:ext cx="2954160" cy="2622600"/>
            </a:xfrm>
            <a:custGeom>
              <a:avLst/>
              <a:gdLst>
                <a:gd name="textAreaLeft" fmla="*/ 433440 w 2954160"/>
                <a:gd name="textAreaRight" fmla="*/ 2520720 w 2954160"/>
                <a:gd name="textAreaTop" fmla="*/ 384120 h 2622600"/>
                <a:gd name="textAreaBottom" fmla="*/ 2238480 h 262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_s5126"/>
            <p:cNvSpPr/>
            <p:nvPr/>
          </p:nvSpPr>
          <p:spPr>
            <a:xfrm rot="14400000">
              <a:off x="5070960" y="2581560"/>
              <a:ext cx="2954160" cy="2622600"/>
            </a:xfrm>
            <a:custGeom>
              <a:avLst/>
              <a:gdLst>
                <a:gd name="textAreaLeft" fmla="*/ 433440 w 2954160"/>
                <a:gd name="textAreaRight" fmla="*/ 2520720 w 2954160"/>
                <a:gd name="textAreaTop" fmla="*/ 384120 h 2622600"/>
                <a:gd name="textAreaBottom" fmla="*/ 2238480 h 262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_s5127"/>
            <p:cNvSpPr/>
            <p:nvPr/>
          </p:nvSpPr>
          <p:spPr>
            <a:xfrm>
              <a:off x="7624800" y="2255760"/>
              <a:ext cx="10526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_s5128"/>
            <p:cNvSpPr/>
            <p:nvPr/>
          </p:nvSpPr>
          <p:spPr>
            <a:xfrm>
              <a:off x="6380280" y="468324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_s5129"/>
            <p:cNvSpPr/>
            <p:nvPr/>
          </p:nvSpPr>
          <p:spPr>
            <a:xfrm>
              <a:off x="5135400" y="2255760"/>
              <a:ext cx="10526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Rectangle 13"/>
            <p:cNvSpPr/>
            <p:nvPr/>
          </p:nvSpPr>
          <p:spPr>
            <a:xfrm>
              <a:off x="5029200" y="253368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Verdana"/>
                </a:rPr>
                <a:t>Непрерывно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Verdana"/>
                </a:rPr>
                <a:t>улучшени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22A9C-759F-4F95-9881-7D74E6BE9C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сновные элементы внедрения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6" name="Rectangle 12"/>
          <p:cNvSpPr/>
          <p:nvPr/>
        </p:nvSpPr>
        <p:spPr>
          <a:xfrm>
            <a:off x="457200" y="129528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AutoShape 14"/>
          <p:cNvSpPr/>
          <p:nvPr/>
        </p:nvSpPr>
        <p:spPr>
          <a:xfrm>
            <a:off x="152280" y="1371600"/>
            <a:ext cx="4800600" cy="4495680"/>
          </a:xfrm>
          <a:prstGeom prst="rightArrowCallout">
            <a:avLst>
              <a:gd name="adj1" fmla="val 25002"/>
              <a:gd name="adj2" fmla="val 25000"/>
              <a:gd name="adj3" fmla="val 17797"/>
              <a:gd name="adj4" fmla="val 6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15"/>
          <p:cNvSpPr/>
          <p:nvPr/>
        </p:nvSpPr>
        <p:spPr>
          <a:xfrm>
            <a:off x="152280" y="1795320"/>
            <a:ext cx="3429000" cy="34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Приверж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План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Струк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Лидер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и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Вовлеч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Планирован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0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3A64-003D-4171-83FC-B5C2B5F13E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tebulb"/>
          <p:cNvSpPr/>
          <p:nvPr/>
        </p:nvSpPr>
        <p:spPr>
          <a:xfrm>
            <a:off x="4952880" y="838080"/>
            <a:ext cx="4038840" cy="5257800"/>
          </a:xfrm>
          <a:custGeom>
            <a:avLst/>
            <a:gdLst>
              <a:gd name="textAreaLeft" fmla="*/ 664920 w 4038840"/>
              <a:gd name="textAreaRight" fmla="*/ 3417480 w 4038840"/>
              <a:gd name="textAreaTop" fmla="*/ 532440 h 5257800"/>
              <a:gd name="textAreaBottom" fmla="*/ 2259360 h 525780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8"/>
          <p:cNvSpPr/>
          <p:nvPr/>
        </p:nvSpPr>
        <p:spPr>
          <a:xfrm>
            <a:off x="0" y="1219320"/>
            <a:ext cx="53341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читывайте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орневые причины ошиб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правление рис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бои, потенциальные сбои и ситуации на грани ошиб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тоимость, выигрыш и приорит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цена без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 Box 9"/>
          <p:cNvSpPr/>
          <p:nvPr/>
        </p:nvSpPr>
        <p:spPr>
          <a:xfrm>
            <a:off x="6248520" y="1066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шибк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10"/>
          <p:cNvSpPr/>
          <p:nvPr/>
        </p:nvSpPr>
        <p:spPr>
          <a:xfrm>
            <a:off x="5334120" y="15238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бо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6" name="Picture 12" descr="j0424784"/>
          <p:cNvPicPr/>
          <p:nvPr/>
        </p:nvPicPr>
        <p:blipFill>
          <a:blip r:embed="rId6"/>
          <a:stretch/>
        </p:blipFill>
        <p:spPr>
          <a:xfrm>
            <a:off x="5334120" y="2362320"/>
            <a:ext cx="1774800" cy="1631880"/>
          </a:xfrm>
          <a:prstGeom prst="rect">
            <a:avLst/>
          </a:prstGeom>
          <a:ln w="0">
            <a:noFill/>
          </a:ln>
        </p:spPr>
      </p:pic>
      <p:sp>
        <p:nvSpPr>
          <p:cNvPr id="1067" name="Text Box 13"/>
          <p:cNvSpPr/>
          <p:nvPr/>
        </p:nvSpPr>
        <p:spPr>
          <a:xfrm>
            <a:off x="6858000" y="2443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ыигры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4"/>
          <p:cNvSpPr/>
          <p:nvPr/>
        </p:nvSpPr>
        <p:spPr>
          <a:xfrm>
            <a:off x="6400800" y="1828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иоритет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50F6-998D-4787-B195-8C4E3BB218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4191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Лидерство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-360" y="1352520"/>
            <a:ext cx="61722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ет благоприятную среду для улучшени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ткрытость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му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 каждого могут быть ценные иде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верженность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му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 улучшения будут иметь мес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зможност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м участвова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3" name="Picture 6" descr="10031_lores"/>
          <p:cNvPicPr/>
          <p:nvPr/>
        </p:nvPicPr>
        <p:blipFill>
          <a:blip r:embed="rId1"/>
          <a:srcRect l="4686" t="0" r="0" b="0"/>
          <a:stretch/>
        </p:blipFill>
        <p:spPr>
          <a:xfrm>
            <a:off x="6172200" y="1371600"/>
            <a:ext cx="2806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6F00-992D-4320-964A-C7DF419592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4114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аст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о не всегда знает, что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нают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лают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трудни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постоянного улучшения требуетс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идерство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частие коман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8" name="Picture 7" descr="j0216070"/>
          <p:cNvPicPr/>
          <p:nvPr/>
        </p:nvPicPr>
        <p:blipFill>
          <a:blip r:embed="rId1"/>
          <a:stretch/>
        </p:blipFill>
        <p:spPr>
          <a:xfrm>
            <a:off x="4876920" y="3809880"/>
            <a:ext cx="3962160" cy="249552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9" descr="PHIL_2104_lores"/>
          <p:cNvPicPr/>
          <p:nvPr/>
        </p:nvPicPr>
        <p:blipFill>
          <a:blip r:embed="rId2"/>
          <a:stretch/>
        </p:blipFill>
        <p:spPr>
          <a:xfrm>
            <a:off x="4876920" y="1219320"/>
            <a:ext cx="39621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2219-977B-4EA5-AA35-A74002B5B2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3200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914400" y="1162080"/>
            <a:ext cx="7238880" cy="34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ы внедрили в лаборатории новый анализ на СД4. Ваши сотрудники прошли обучение и уверенно выполняют эти анализы. Метод был проверен, отчеты с результатами выдаются, и «кажется», что анализ работает хорош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Text Box 4"/>
          <p:cNvSpPr/>
          <p:nvPr/>
        </p:nvSpPr>
        <p:spPr>
          <a:xfrm>
            <a:off x="457200" y="4581360"/>
            <a:ext cx="845820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к вы можете убедиться, что анализ хорошо работает в настоящем и будет так же хорошо работать в будущ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F4AB-7971-4EDD-9D74-7CB8F2548F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3" name="Text Box 7"/>
          <p:cNvSpPr/>
          <p:nvPr/>
        </p:nvSpPr>
        <p:spPr>
          <a:xfrm>
            <a:off x="609480" y="1390680"/>
            <a:ext cx="75438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дин проект каждые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6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сяцев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график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4" name="Group 17"/>
          <p:cNvGrpSpPr/>
          <p:nvPr/>
        </p:nvGrpSpPr>
        <p:grpSpPr>
          <a:xfrm>
            <a:off x="228600" y="3063960"/>
            <a:ext cx="8686800" cy="3184560"/>
            <a:chOff x="228600" y="3063960"/>
            <a:chExt cx="8686800" cy="3184560"/>
          </a:xfrm>
        </p:grpSpPr>
        <p:pic>
          <p:nvPicPr>
            <p:cNvPr id="1085" name="Picture 10" descr="gantt-process-improvement"/>
            <p:cNvPicPr/>
            <p:nvPr/>
          </p:nvPicPr>
          <p:blipFill>
            <a:blip r:embed="rId1"/>
            <a:stretch/>
          </p:blipFill>
          <p:spPr>
            <a:xfrm>
              <a:off x="228600" y="3063960"/>
              <a:ext cx="8686800" cy="31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6" name="Text Box 11"/>
            <p:cNvSpPr/>
            <p:nvPr/>
          </p:nvSpPr>
          <p:spPr>
            <a:xfrm>
              <a:off x="228600" y="3505320"/>
              <a:ext cx="3505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ид рабо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13"/>
            <p:cNvSpPr/>
            <p:nvPr/>
          </p:nvSpPr>
          <p:spPr>
            <a:xfrm>
              <a:off x="304920" y="4430880"/>
              <a:ext cx="43434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. Сбор образцов – гематологи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14"/>
            <p:cNvSpPr/>
            <p:nvPr/>
          </p:nvSpPr>
          <p:spPr>
            <a:xfrm>
              <a:off x="304920" y="4811760"/>
              <a:ext cx="3276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. Время оборота ИФ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15"/>
            <p:cNvSpPr/>
            <p:nvPr/>
          </p:nvSpPr>
          <p:spPr>
            <a:xfrm>
              <a:off x="304920" y="5268960"/>
              <a:ext cx="4495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. Жалобы врачей – мазки на КУБ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16"/>
            <p:cNvSpPr/>
            <p:nvPr/>
          </p:nvSpPr>
          <p:spPr>
            <a:xfrm>
              <a:off x="304920" y="5638680"/>
              <a:ext cx="59227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. Контроль качества химического оборудовани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2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5779-45D5-4062-84E8-1944C47B3D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6"/>
          <p:cNvSpPr/>
          <p:nvPr/>
        </p:nvSpPr>
        <p:spPr>
          <a:xfrm>
            <a:off x="457200" y="1041480"/>
            <a:ext cx="8229600" cy="16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ействуйте командой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влек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отрудников-исполнителе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Picture 8" descr="5721_lores"/>
          <p:cNvPicPr/>
          <p:nvPr/>
        </p:nvPicPr>
        <p:blipFill>
          <a:blip r:embed="rId1"/>
          <a:srcRect l="26742" t="0" r="0" b="0"/>
          <a:stretch/>
        </p:blipFill>
        <p:spPr>
          <a:xfrm>
            <a:off x="4724280" y="2666880"/>
            <a:ext cx="3930840" cy="354960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9" descr="meeting_africa"/>
          <p:cNvPicPr/>
          <p:nvPr/>
        </p:nvPicPr>
        <p:blipFill>
          <a:blip r:embed="rId2"/>
          <a:srcRect l="28138" t="0" r="0" b="0"/>
          <a:stretch/>
        </p:blipFill>
        <p:spPr>
          <a:xfrm>
            <a:off x="1143000" y="2666880"/>
            <a:ext cx="37242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8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F195-7A3C-4264-B749-FA126A061A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0" name="Picture 7" descr="j0316798"/>
          <p:cNvPicPr/>
          <p:nvPr/>
        </p:nvPicPr>
        <p:blipFill>
          <a:blip r:embed="rId1"/>
          <a:stretch/>
        </p:blipFill>
        <p:spPr>
          <a:xfrm>
            <a:off x="3657600" y="2590920"/>
            <a:ext cx="4648320" cy="3043080"/>
          </a:xfrm>
          <a:prstGeom prst="rect">
            <a:avLst/>
          </a:prstGeom>
          <a:ln w="0">
            <a:noFill/>
          </a:ln>
        </p:spPr>
      </p:pic>
      <p:sp>
        <p:nvSpPr>
          <p:cNvPr id="1101" name="Text Box 5"/>
          <p:cNvSpPr/>
          <p:nvPr/>
        </p:nvSpPr>
        <p:spPr>
          <a:xfrm>
            <a:off x="1371600" y="121932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Используйте инструменты ка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9"/>
          <p:cNvSpPr/>
          <p:nvPr/>
        </p:nvSpPr>
        <p:spPr>
          <a:xfrm>
            <a:off x="533520" y="2536920"/>
            <a:ext cx="380988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уд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нал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каза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Шесть сиг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Бережлив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4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76F8-DFC0-4991-9E7C-E67F646CDA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6" name="Picture 13" descr="manuals"/>
          <p:cNvPicPr/>
          <p:nvPr/>
        </p:nvPicPr>
        <p:blipFill>
          <a:blip r:embed="rId1"/>
          <a:srcRect l="63519" t="15741" r="0" b="15741"/>
          <a:stretch/>
        </p:blipFill>
        <p:spPr>
          <a:xfrm>
            <a:off x="4800600" y="3809880"/>
            <a:ext cx="1996920" cy="2387880"/>
          </a:xfrm>
          <a:prstGeom prst="rect">
            <a:avLst/>
          </a:prstGeom>
          <a:ln w="0">
            <a:noFill/>
          </a:ln>
        </p:spPr>
      </p:pic>
      <p:sp>
        <p:nvSpPr>
          <p:cNvPr id="1107" name="Text Box 5"/>
          <p:cNvSpPr/>
          <p:nvPr/>
        </p:nvSpPr>
        <p:spPr>
          <a:xfrm>
            <a:off x="550800" y="1112760"/>
            <a:ext cx="76788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равляйте и предупреждайте неправильное выполнение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8" name="Picture 10" descr=""/>
          <p:cNvPicPr/>
          <p:nvPr/>
        </p:nvPicPr>
        <p:blipFill>
          <a:blip r:embed="rId2"/>
          <a:srcRect l="16994" t="4707" r="0" b="14122"/>
          <a:stretch/>
        </p:blipFill>
        <p:spPr>
          <a:xfrm>
            <a:off x="609480" y="1944720"/>
            <a:ext cx="3657600" cy="277956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7" descr="5749_thumb"/>
          <p:cNvPicPr/>
          <p:nvPr/>
        </p:nvPicPr>
        <p:blipFill>
          <a:blip r:embed="rId3"/>
          <a:stretch/>
        </p:blipFill>
        <p:spPr>
          <a:xfrm>
            <a:off x="6553080" y="1905120"/>
            <a:ext cx="2438640" cy="3200400"/>
          </a:xfrm>
          <a:prstGeom prst="rect">
            <a:avLst/>
          </a:prstGeom>
          <a:ln w="0">
            <a:noFill/>
          </a:ln>
        </p:spPr>
      </p:pic>
      <p:sp>
        <p:nvSpPr>
          <p:cNvPr id="1110" name="AutoShape 12"/>
          <p:cNvSpPr/>
          <p:nvPr/>
        </p:nvSpPr>
        <p:spPr>
          <a:xfrm>
            <a:off x="4038480" y="1905120"/>
            <a:ext cx="2819520" cy="2057400"/>
          </a:xfrm>
          <a:custGeom>
            <a:avLst/>
            <a:gdLst>
              <a:gd name="textAreaLeft" fmla="*/ 440280 w 2819520"/>
              <a:gd name="textAreaRight" fmla="*/ 2467080 w 2819520"/>
              <a:gd name="textAreaTop" fmla="*/ 51408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Oval 20"/>
          <p:cNvSpPr/>
          <p:nvPr/>
        </p:nvSpPr>
        <p:spPr>
          <a:xfrm>
            <a:off x="2514600" y="2743200"/>
            <a:ext cx="1523880" cy="1600200"/>
          </a:xfrm>
          <a:prstGeom prst="ellipse">
            <a:avLst/>
          </a:prstGeom>
          <a:noFill/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 Box 5"/>
          <p:cNvSpPr/>
          <p:nvPr/>
        </p:nvSpPr>
        <p:spPr>
          <a:xfrm>
            <a:off x="533520" y="4724280"/>
            <a:ext cx="403848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читывайтесь о результатах руководству и сотрудник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456840" y="1218960"/>
            <a:ext cx="84582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изучения используйте доступную информацию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ложения и жалобы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ошибки, выявлен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программой по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управлению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нештатными ситуация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блемы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явленны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утренними аудит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39E4-A70B-4928-B6AF-F177185503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7" name="Picture 9" descr="6216_thumb"/>
          <p:cNvPicPr/>
          <p:nvPr/>
        </p:nvPicPr>
        <p:blipFill>
          <a:blip r:embed="rId1"/>
          <a:stretch/>
        </p:blipFill>
        <p:spPr>
          <a:xfrm>
            <a:off x="6095880" y="2895480"/>
            <a:ext cx="2743200" cy="17827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0" descr="j0409007"/>
          <p:cNvPicPr/>
          <p:nvPr/>
        </p:nvPicPr>
        <p:blipFill>
          <a:blip r:embed="rId2"/>
          <a:stretch/>
        </p:blipFill>
        <p:spPr>
          <a:xfrm>
            <a:off x="5611680" y="3772080"/>
            <a:ext cx="1779840" cy="2666880"/>
          </a:xfrm>
          <a:prstGeom prst="rect">
            <a:avLst/>
          </a:prstGeom>
          <a:ln w="0">
            <a:noFill/>
          </a:ln>
        </p:spPr>
      </p:pic>
      <p:sp>
        <p:nvSpPr>
          <p:cNvPr id="1119" name="WordArt 11"/>
          <p:cNvSpPr txBox="1"/>
          <p:nvPr/>
        </p:nvSpPr>
        <p:spPr>
          <a:xfrm>
            <a:off x="6095880" y="55627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228600" y="1219320"/>
            <a:ext cx="8686800" cy="6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 возможности,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запланируйте исследование так, чтобы результаты были статистически обработаны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C261-48EE-4DEF-B527-1A4294E765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4" name="Group 3"/>
          <p:cNvGrpSpPr/>
          <p:nvPr/>
        </p:nvGrpSpPr>
        <p:grpSpPr>
          <a:xfrm>
            <a:off x="380880" y="2209680"/>
            <a:ext cx="8686800" cy="4058280"/>
            <a:chOff x="380880" y="2209680"/>
            <a:chExt cx="8686800" cy="4058280"/>
          </a:xfrm>
        </p:grpSpPr>
        <p:grpSp>
          <p:nvGrpSpPr>
            <p:cNvPr id="1125" name="Group 9"/>
            <p:cNvGrpSpPr/>
            <p:nvPr/>
          </p:nvGrpSpPr>
          <p:grpSpPr>
            <a:xfrm>
              <a:off x="380880" y="2209680"/>
              <a:ext cx="8686800" cy="4058280"/>
              <a:chOff x="380880" y="2209680"/>
              <a:chExt cx="8686800" cy="4058280"/>
            </a:xfrm>
          </p:grpSpPr>
          <p:pic>
            <p:nvPicPr>
              <p:cNvPr id="1126" name="Picture 6" descr="lean_6_pre"/>
              <p:cNvPicPr/>
              <p:nvPr/>
            </p:nvPicPr>
            <p:blipFill>
              <a:blip r:embed="rId1"/>
              <a:stretch/>
            </p:blipFill>
            <p:spPr>
              <a:xfrm>
                <a:off x="1066680" y="2209680"/>
                <a:ext cx="2959200" cy="297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7" name="Picture 7" descr="lean_7_post"/>
              <p:cNvPicPr/>
              <p:nvPr/>
            </p:nvPicPr>
            <p:blipFill>
              <a:blip r:embed="rId2"/>
              <a:stretch/>
            </p:blipFill>
            <p:spPr>
              <a:xfrm>
                <a:off x="5257800" y="2286000"/>
                <a:ext cx="2971800" cy="290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8" name="Rectangle 8"/>
              <p:cNvSpPr/>
              <p:nvPr/>
            </p:nvSpPr>
            <p:spPr>
              <a:xfrm>
                <a:off x="380880" y="5200560"/>
                <a:ext cx="426744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Verdana"/>
                  </a:rPr>
                  <a:t>Время выдачи окончательных положительных результатов анализов культур крови ДО применения «Бережливости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8"/>
              <p:cNvSpPr/>
              <p:nvPr/>
            </p:nvSpPr>
            <p:spPr>
              <a:xfrm>
                <a:off x="4570560" y="5192640"/>
                <a:ext cx="449712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Verdana"/>
                  </a:rPr>
                  <a:t>Время выдачи окончательных положительных результатов анализов культур крови ПОСЛЕ применения «Бережливости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0" name="TextBox 4"/>
            <p:cNvSpPr/>
            <p:nvPr/>
          </p:nvSpPr>
          <p:spPr>
            <a:xfrm>
              <a:off x="3047760" y="4284000"/>
              <a:ext cx="304560" cy="28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TextBox 14"/>
            <p:cNvSpPr/>
            <p:nvPr/>
          </p:nvSpPr>
          <p:spPr>
            <a:xfrm>
              <a:off x="6553080" y="4359960"/>
              <a:ext cx="380880" cy="28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TextBox 15"/>
            <p:cNvSpPr/>
            <p:nvPr/>
          </p:nvSpPr>
          <p:spPr>
            <a:xfrm>
              <a:off x="7391520" y="3401640"/>
              <a:ext cx="380880" cy="28728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Arial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TextBox 16"/>
            <p:cNvSpPr/>
            <p:nvPr/>
          </p:nvSpPr>
          <p:spPr>
            <a:xfrm>
              <a:off x="2087640" y="2872080"/>
              <a:ext cx="252000" cy="252000"/>
            </a:xfrm>
            <a:prstGeom prst="rect">
              <a:avLst/>
            </a:prstGeom>
            <a:solidFill>
              <a:srgbClr val="b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TextBox 17"/>
            <p:cNvSpPr/>
            <p:nvPr/>
          </p:nvSpPr>
          <p:spPr>
            <a:xfrm>
              <a:off x="1676160" y="3632400"/>
              <a:ext cx="411480" cy="252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TextBox 18"/>
            <p:cNvSpPr/>
            <p:nvPr/>
          </p:nvSpPr>
          <p:spPr>
            <a:xfrm>
              <a:off x="6120000" y="3383640"/>
              <a:ext cx="356760" cy="252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TextBox 19"/>
            <p:cNvSpPr/>
            <p:nvPr/>
          </p:nvSpPr>
          <p:spPr>
            <a:xfrm>
              <a:off x="3024000" y="2987280"/>
              <a:ext cx="323640" cy="28872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Arial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j0157047"/>
          <p:cNvPicPr/>
          <p:nvPr/>
        </p:nvPicPr>
        <p:blipFill>
          <a:blip r:embed="rId1"/>
          <a:stretch/>
        </p:blipFill>
        <p:spPr>
          <a:xfrm>
            <a:off x="5848200" y="1676520"/>
            <a:ext cx="2838600" cy="4800600"/>
          </a:xfrm>
          <a:prstGeom prst="rect">
            <a:avLst/>
          </a:prstGeom>
          <a:ln w="0">
            <a:noFill/>
          </a:ln>
        </p:spPr>
      </p:pic>
      <p:sp>
        <p:nvSpPr>
          <p:cNvPr id="113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F84A-F0A5-4184-B435-3839C8BE96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оказатели качества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и сроки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655344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Используйте показател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ачества до тех пор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 он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стается информативным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2" name="Text Box 5"/>
          <p:cNvSpPr/>
          <p:nvPr/>
        </p:nvSpPr>
        <p:spPr>
          <a:xfrm>
            <a:off x="763920" y="4876920"/>
            <a:ext cx="52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Lucida Calligraphy"/>
              </a:rPr>
              <a:t>Не привязывайтесь 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Lucida Calligraphy"/>
              </a:rPr>
              <a:t>своим показателям</a:t>
            </a:r>
            <a:r>
              <a:rPr b="1" lang="en-US" sz="3600" spc="-1" strike="noStrike">
                <a:solidFill>
                  <a:srgbClr val="ff0000"/>
                </a:solidFill>
                <a:latin typeface="Lucida Calligraphy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9385-8957-4E1A-BCA3-C4696104F2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ыводы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6" name="Oval 3"/>
          <p:cNvSpPr/>
          <p:nvPr/>
        </p:nvSpPr>
        <p:spPr>
          <a:xfrm>
            <a:off x="1143000" y="2209680"/>
            <a:ext cx="3657600" cy="3429000"/>
          </a:xfrm>
          <a:prstGeom prst="ellipse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Oval 4"/>
          <p:cNvSpPr/>
          <p:nvPr/>
        </p:nvSpPr>
        <p:spPr>
          <a:xfrm>
            <a:off x="1371600" y="1523880"/>
            <a:ext cx="28195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ланиру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Oval 5"/>
          <p:cNvSpPr/>
          <p:nvPr/>
        </p:nvSpPr>
        <p:spPr>
          <a:xfrm>
            <a:off x="3352680" y="2895480"/>
            <a:ext cx="2057400" cy="152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дел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Oval 6"/>
          <p:cNvSpPr/>
          <p:nvPr/>
        </p:nvSpPr>
        <p:spPr>
          <a:xfrm>
            <a:off x="76320" y="2895480"/>
            <a:ext cx="2743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Действу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AutoShape 7"/>
          <p:cNvSpPr/>
          <p:nvPr/>
        </p:nvSpPr>
        <p:spPr>
          <a:xfrm>
            <a:off x="1600200" y="4343400"/>
            <a:ext cx="2895480" cy="2133720"/>
          </a:xfrm>
          <a:custGeom>
            <a:avLst/>
            <a:gdLst>
              <a:gd name="textAreaLeft" fmla="*/ 775080 w 2895480"/>
              <a:gd name="textAreaRight" fmla="*/ 2120400 w 2895480"/>
              <a:gd name="textAreaTop" fmla="*/ 571320 h 2133720"/>
              <a:gd name="textAreaBottom" fmla="*/ 156240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ОВ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ubRRectCallout"/>
          <p:cNvSpPr/>
          <p:nvPr/>
        </p:nvSpPr>
        <p:spPr>
          <a:xfrm>
            <a:off x="5257800" y="1143000"/>
            <a:ext cx="3581280" cy="2590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ждый этап важен для того, чтобы цикл качества работ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2" name="Picture 11" descr="head"/>
          <p:cNvPicPr/>
          <p:nvPr/>
        </p:nvPicPr>
        <p:blipFill>
          <a:blip r:embed="rId1"/>
          <a:stretch/>
        </p:blipFill>
        <p:spPr>
          <a:xfrm>
            <a:off x="4913280" y="3657600"/>
            <a:ext cx="2021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129E-E2EF-480A-B61D-0FD9F38270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1629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сновные положения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250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ачество важ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стоянное улучшение – это центральная часть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0B41-C156-4FF9-B6D1-14E3FDC0C3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160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161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10"/>
            <p:cNvSpPr/>
            <p:nvPr/>
          </p:nvSpPr>
          <p:spPr>
            <a:xfrm>
              <a:off x="2272320" y="3614040"/>
              <a:ext cx="291960" cy="33588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5880"/>
                <a:gd name="textAreaBottom" fmla="*/ 335880 h 33588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11"/>
            <p:cNvSpPr/>
            <p:nvPr/>
          </p:nvSpPr>
          <p:spPr>
            <a:xfrm>
              <a:off x="2272320" y="3614040"/>
              <a:ext cx="291960" cy="33588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5880"/>
                <a:gd name="textAreaBottom" fmla="*/ 335880 h 33588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16"/>
            <p:cNvSpPr/>
            <p:nvPr/>
          </p:nvSpPr>
          <p:spPr>
            <a:xfrm>
              <a:off x="1062720" y="3061440"/>
              <a:ext cx="152280" cy="975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Line 24"/>
            <p:cNvSpPr/>
            <p:nvPr/>
          </p:nvSpPr>
          <p:spPr>
            <a:xfrm flipH="1" flipV="1">
              <a:off x="2673000" y="5500440"/>
              <a:ext cx="10080" cy="432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Line 27"/>
            <p:cNvSpPr/>
            <p:nvPr/>
          </p:nvSpPr>
          <p:spPr>
            <a:xfrm>
              <a:off x="4066920" y="1722600"/>
              <a:ext cx="1440" cy="35690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Line 27"/>
            <p:cNvSpPr/>
            <p:nvPr/>
          </p:nvSpPr>
          <p:spPr>
            <a:xfrm>
              <a:off x="2616840" y="1862640"/>
              <a:ext cx="0" cy="35690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Line 27"/>
            <p:cNvSpPr/>
            <p:nvPr/>
          </p:nvSpPr>
          <p:spPr>
            <a:xfrm>
              <a:off x="1095840" y="1904400"/>
              <a:ext cx="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Line 27"/>
            <p:cNvSpPr/>
            <p:nvPr/>
          </p:nvSpPr>
          <p:spPr>
            <a:xfrm flipH="1">
              <a:off x="816120" y="1766160"/>
              <a:ext cx="356436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5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176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177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178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Text Box 71"/>
              <p:cNvSpPr/>
              <p:nvPr/>
            </p:nvSpPr>
            <p:spPr>
              <a:xfrm>
                <a:off x="561600" y="159228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2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183" name="Freeform 73"/>
              <p:cNvSpPr/>
              <p:nvPr/>
            </p:nvSpPr>
            <p:spPr>
              <a:xfrm>
                <a:off x="2078640" y="1223640"/>
                <a:ext cx="1045080" cy="1035360"/>
              </a:xfrm>
              <a:custGeom>
                <a:avLst/>
                <a:gdLst>
                  <a:gd name="textAreaLeft" fmla="*/ 0 w 1045080"/>
                  <a:gd name="textAreaRight" fmla="*/ 1045440 w 10450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Text Box 74"/>
              <p:cNvSpPr/>
              <p:nvPr/>
            </p:nvSpPr>
            <p:spPr>
              <a:xfrm>
                <a:off x="2043360" y="15937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5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186" name="Group 76"/>
              <p:cNvGrpSpPr/>
              <p:nvPr/>
            </p:nvGrpSpPr>
            <p:grpSpPr>
              <a:xfrm>
                <a:off x="3536280" y="1223640"/>
                <a:ext cx="1048680" cy="1035360"/>
                <a:chOff x="3536280" y="1223640"/>
                <a:chExt cx="1048680" cy="1035360"/>
              </a:xfrm>
            </p:grpSpPr>
            <p:sp>
              <p:nvSpPr>
                <p:cNvPr id="1187" name="Freeform 77"/>
                <p:cNvSpPr/>
                <p:nvPr/>
              </p:nvSpPr>
              <p:spPr>
                <a:xfrm>
                  <a:off x="3536280" y="1223640"/>
                  <a:ext cx="1048680" cy="1035360"/>
                </a:xfrm>
                <a:custGeom>
                  <a:avLst/>
                  <a:gdLst>
                    <a:gd name="textAreaLeft" fmla="*/ 0 w 1048680"/>
                    <a:gd name="textAreaRight" fmla="*/ 1049040 w 104868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Freeform 78"/>
                <p:cNvSpPr/>
                <p:nvPr/>
              </p:nvSpPr>
              <p:spPr>
                <a:xfrm>
                  <a:off x="3536280" y="1223640"/>
                  <a:ext cx="1048680" cy="1035360"/>
                </a:xfrm>
                <a:custGeom>
                  <a:avLst/>
                  <a:gdLst>
                    <a:gd name="textAreaLeft" fmla="*/ 0 w 1048680"/>
                    <a:gd name="textAreaRight" fmla="*/ 1049040 w 104868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9" name="Text Box 79"/>
              <p:cNvSpPr/>
              <p:nvPr/>
            </p:nvSpPr>
            <p:spPr>
              <a:xfrm>
                <a:off x="3495240" y="159624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0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192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4" name="Freeform 31"/>
            <p:cNvSpPr/>
            <p:nvPr/>
          </p:nvSpPr>
          <p:spPr>
            <a:xfrm>
              <a:off x="2086560" y="2443680"/>
              <a:ext cx="1044000" cy="1037160"/>
            </a:xfrm>
            <a:custGeom>
              <a:avLst/>
              <a:gdLst>
                <a:gd name="textAreaLeft" fmla="*/ 0 w 1044000"/>
                <a:gd name="textAreaRight" fmla="*/ 1044360 w 10440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6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197" name="Freeform 48"/>
              <p:cNvSpPr/>
              <p:nvPr/>
            </p:nvSpPr>
            <p:spPr>
              <a:xfrm>
                <a:off x="3512520" y="2404800"/>
                <a:ext cx="1047960" cy="1035360"/>
              </a:xfrm>
              <a:custGeom>
                <a:avLst/>
                <a:gdLst>
                  <a:gd name="textAreaLeft" fmla="*/ 0 w 1047960"/>
                  <a:gd name="textAreaRight" fmla="*/ 1048320 w 10479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Text Box 55"/>
              <p:cNvSpPr/>
              <p:nvPr/>
            </p:nvSpPr>
            <p:spPr>
              <a:xfrm>
                <a:off x="3489480" y="273996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9" name="Line 27"/>
            <p:cNvSpPr/>
            <p:nvPr/>
          </p:nvSpPr>
          <p:spPr>
            <a:xfrm flipH="1">
              <a:off x="816120" y="4051080"/>
              <a:ext cx="356436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0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201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Text Box 82"/>
              <p:cNvSpPr/>
              <p:nvPr/>
            </p:nvSpPr>
            <p:spPr>
              <a:xfrm>
                <a:off x="541080" y="384948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3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204" name="Freeform 30"/>
              <p:cNvSpPr/>
              <p:nvPr/>
            </p:nvSpPr>
            <p:spPr>
              <a:xfrm>
                <a:off x="2066040" y="3572280"/>
                <a:ext cx="1045800" cy="1036800"/>
              </a:xfrm>
              <a:custGeom>
                <a:avLst/>
                <a:gdLst>
                  <a:gd name="textAreaLeft" fmla="*/ 0 w 1045800"/>
                  <a:gd name="textAreaRight" fmla="*/ 1046160 w 104580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Text Box 54"/>
              <p:cNvSpPr/>
              <p:nvPr/>
            </p:nvSpPr>
            <p:spPr>
              <a:xfrm>
                <a:off x="2043360" y="378828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6" name="Freeform 50"/>
            <p:cNvSpPr/>
            <p:nvPr/>
          </p:nvSpPr>
          <p:spPr>
            <a:xfrm>
              <a:off x="3513960" y="3566160"/>
              <a:ext cx="1044000" cy="1037160"/>
            </a:xfrm>
            <a:custGeom>
              <a:avLst/>
              <a:gdLst>
                <a:gd name="textAreaLeft" fmla="*/ 0 w 1044000"/>
                <a:gd name="textAreaRight" fmla="*/ 1044360 w 10440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Text Box 51"/>
            <p:cNvSpPr/>
            <p:nvPr/>
          </p:nvSpPr>
          <p:spPr>
            <a:xfrm>
              <a:off x="3485160" y="3941640"/>
              <a:ext cx="112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Line 27"/>
            <p:cNvSpPr/>
            <p:nvPr/>
          </p:nvSpPr>
          <p:spPr>
            <a:xfrm flipH="1">
              <a:off x="883800" y="5227920"/>
              <a:ext cx="3561480" cy="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9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210" name="Freeform 57"/>
              <p:cNvSpPr/>
              <p:nvPr/>
            </p:nvSpPr>
            <p:spPr>
              <a:xfrm>
                <a:off x="60732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2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213" name="Freeform 34"/>
              <p:cNvSpPr/>
              <p:nvPr/>
            </p:nvSpPr>
            <p:spPr>
              <a:xfrm>
                <a:off x="2084760" y="4686840"/>
                <a:ext cx="1042560" cy="1035720"/>
              </a:xfrm>
              <a:custGeom>
                <a:avLst/>
                <a:gdLst>
                  <a:gd name="textAreaLeft" fmla="*/ 0 w 1042560"/>
                  <a:gd name="textAreaRight" fmla="*/ 1042920 w 104256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5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216" name="Freeform 63"/>
              <p:cNvSpPr/>
              <p:nvPr/>
            </p:nvSpPr>
            <p:spPr>
              <a:xfrm>
                <a:off x="3528000" y="4746240"/>
                <a:ext cx="1047240" cy="1035360"/>
              </a:xfrm>
              <a:custGeom>
                <a:avLst/>
                <a:gdLst>
                  <a:gd name="textAreaLeft" fmla="*/ 0 w 1047240"/>
                  <a:gd name="textAreaRight" fmla="*/ 1047600 w 10472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Arial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790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0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1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4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805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806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807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Text Box 70"/>
                <p:cNvSpPr/>
                <p:nvPr/>
              </p:nvSpPr>
              <p:spPr>
                <a:xfrm>
                  <a:off x="1848600" y="1418400"/>
                  <a:ext cx="14756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812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815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816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0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821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3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5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826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8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9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830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2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833" name="Freeform 30"/>
              <p:cNvSpPr/>
              <p:nvPr/>
            </p:nvSpPr>
            <p:spPr>
              <a:xfrm>
                <a:off x="3855240" y="3740040"/>
                <a:ext cx="1370520" cy="114120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5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839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1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842" name="Freeform 34"/>
              <p:cNvSpPr/>
              <p:nvPr/>
            </p:nvSpPr>
            <p:spPr>
              <a:xfrm>
                <a:off x="3879360" y="4966920"/>
                <a:ext cx="1368720" cy="1140120"/>
              </a:xfrm>
              <a:custGeom>
                <a:avLst/>
                <a:gdLst>
                  <a:gd name="textAreaLeft" fmla="*/ 0 w 1368720"/>
                  <a:gd name="textAreaRight" fmla="*/ 1369080 w 13687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4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845" name="Freeform 63"/>
              <p:cNvSpPr/>
              <p:nvPr/>
            </p:nvSpPr>
            <p:spPr>
              <a:xfrm>
                <a:off x="5774400" y="5032080"/>
                <a:ext cx="1370520" cy="113976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7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EAF9-4CFF-4366-8832-0BD1CB88EC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1178-0B31-4AF8-86D1-871314CC58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91760" y="428400"/>
            <a:ext cx="6442200" cy="13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. </a:t>
            </a: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Эдвардс Деминг</a:t>
            </a:r>
            <a:br>
              <a:rPr sz="44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14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ринципов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14400" y="35128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охраняйте верность цели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лучшайте постоянно, сегодня и всег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3" name="Picture 6" descr="Deming"/>
          <p:cNvPicPr/>
          <p:nvPr/>
        </p:nvPicPr>
        <p:blipFill>
          <a:blip r:embed="rId1"/>
          <a:stretch/>
        </p:blipFill>
        <p:spPr>
          <a:xfrm>
            <a:off x="7162920" y="533520"/>
            <a:ext cx="1666800" cy="2057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54" name="Text Box 5"/>
          <p:cNvSpPr/>
          <p:nvPr/>
        </p:nvSpPr>
        <p:spPr>
          <a:xfrm>
            <a:off x="609480" y="202716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ва принципа относятся к постоянному улучшен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BDE2-ACDD-4E92-BC40-1E731C4C30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51051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Цикл Деминг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8" name="Rectangle 48"/>
          <p:cNvSpPr/>
          <p:nvPr/>
        </p:nvSpPr>
        <p:spPr>
          <a:xfrm>
            <a:off x="-1371600" y="492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3"/>
          <p:cNvSpPr/>
          <p:nvPr/>
        </p:nvSpPr>
        <p:spPr>
          <a:xfrm>
            <a:off x="2514600" y="1295280"/>
            <a:ext cx="4876920" cy="4876920"/>
          </a:xfrm>
          <a:prstGeom prst="ellipse">
            <a:avLst/>
          </a:prstGeom>
          <a:noFill/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4"/>
          <p:cNvSpPr/>
          <p:nvPr/>
        </p:nvSpPr>
        <p:spPr>
          <a:xfrm>
            <a:off x="1609560" y="2971800"/>
            <a:ext cx="21243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йству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val 4"/>
          <p:cNvSpPr/>
          <p:nvPr/>
        </p:nvSpPr>
        <p:spPr>
          <a:xfrm>
            <a:off x="3809880" y="1143000"/>
            <a:ext cx="22719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ланиру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Oval 4"/>
          <p:cNvSpPr/>
          <p:nvPr/>
        </p:nvSpPr>
        <p:spPr>
          <a:xfrm>
            <a:off x="6400800" y="2895480"/>
            <a:ext cx="19051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дел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Oval 4"/>
          <p:cNvSpPr/>
          <p:nvPr/>
        </p:nvSpPr>
        <p:spPr>
          <a:xfrm>
            <a:off x="3962520" y="5029200"/>
            <a:ext cx="19047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75"/>
          <p:cNvSpPr/>
          <p:nvPr/>
        </p:nvSpPr>
        <p:spPr>
          <a:xfrm rot="18073200">
            <a:off x="2819520" y="175212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AutoShape 76"/>
          <p:cNvSpPr/>
          <p:nvPr/>
        </p:nvSpPr>
        <p:spPr>
          <a:xfrm rot="13538400">
            <a:off x="2819160" y="502884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AutoShape 77"/>
          <p:cNvSpPr/>
          <p:nvPr/>
        </p:nvSpPr>
        <p:spPr>
          <a:xfrm rot="7687200">
            <a:off x="6476760" y="495288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AutoShape 78"/>
          <p:cNvSpPr/>
          <p:nvPr/>
        </p:nvSpPr>
        <p:spPr>
          <a:xfrm rot="2166600">
            <a:off x="6248160" y="152388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2693-C4E1-4BF7-BDD6-DAB5D69AC3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Постоянное улучшение </a:t>
            </a:r>
            <a:br>
              <a:rPr sz="3600"/>
            </a:b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ИСО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15189:2007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1" name="AutoShape 4"/>
          <p:cNvSpPr/>
          <p:nvPr/>
        </p:nvSpPr>
        <p:spPr>
          <a:xfrm>
            <a:off x="5715000" y="1371600"/>
            <a:ext cx="3048120" cy="1828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зработай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лан 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луч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AutoShape 5"/>
          <p:cNvSpPr/>
          <p:nvPr/>
        </p:nvSpPr>
        <p:spPr>
          <a:xfrm>
            <a:off x="0" y="1600200"/>
            <a:ext cx="4383000" cy="32004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ыяв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отенци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ошиб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utoShape 6"/>
          <p:cNvSpPr/>
          <p:nvPr/>
        </p:nvSpPr>
        <p:spPr>
          <a:xfrm>
            <a:off x="6248520" y="3429000"/>
            <a:ext cx="2361960" cy="12952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дрит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utoShape 7"/>
          <p:cNvSpPr/>
          <p:nvPr/>
        </p:nvSpPr>
        <p:spPr>
          <a:xfrm>
            <a:off x="6039000" y="4800600"/>
            <a:ext cx="2571480" cy="1752480"/>
          </a:xfrm>
          <a:prstGeom prst="flowChartPunchedTap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анализируй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ей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AutoShape 8"/>
          <p:cNvSpPr/>
          <p:nvPr/>
        </p:nvSpPr>
        <p:spPr>
          <a:xfrm>
            <a:off x="3124080" y="3581280"/>
            <a:ext cx="2895840" cy="26672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правь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лан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змен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AutoShape 9"/>
          <p:cNvSpPr/>
          <p:nvPr/>
        </p:nvSpPr>
        <p:spPr>
          <a:xfrm rot="20602200">
            <a:off x="2917440" y="1769760"/>
            <a:ext cx="3021120" cy="1143000"/>
          </a:xfrm>
          <a:custGeom>
            <a:avLst/>
            <a:gdLst>
              <a:gd name="textAreaLeft" fmla="*/ 471960 w 3021120"/>
              <a:gd name="textAreaRight" fmla="*/ 2643480 w 30211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Diagram 2"/>
          <p:cNvGrpSpPr/>
          <p:nvPr/>
        </p:nvGrpSpPr>
        <p:grpSpPr>
          <a:xfrm>
            <a:off x="4961880" y="3429000"/>
            <a:ext cx="2649960" cy="2247840"/>
            <a:chOff x="4961880" y="3429000"/>
            <a:chExt cx="2649960" cy="2247840"/>
          </a:xfrm>
        </p:grpSpPr>
        <p:sp>
          <p:nvSpPr>
            <p:cNvPr id="878" name="_s1028"/>
            <p:cNvSpPr/>
            <p:nvPr/>
          </p:nvSpPr>
          <p:spPr>
            <a:xfrm>
              <a:off x="5468040" y="3429000"/>
              <a:ext cx="1636560" cy="1571400"/>
            </a:xfrm>
            <a:custGeom>
              <a:avLst/>
              <a:gdLst>
                <a:gd name="textAreaLeft" fmla="*/ 240120 w 1636560"/>
                <a:gd name="textAreaRight" fmla="*/ 1396440 w 1636560"/>
                <a:gd name="textAreaTop" fmla="*/ 230400 h 1571400"/>
                <a:gd name="textAreaBottom" fmla="*/ 1341000 h 157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_s1029"/>
            <p:cNvSpPr/>
            <p:nvPr/>
          </p:nvSpPr>
          <p:spPr>
            <a:xfrm rot="7200000">
              <a:off x="5724720" y="3767760"/>
              <a:ext cx="1571040" cy="1636560"/>
            </a:xfrm>
            <a:custGeom>
              <a:avLst/>
              <a:gdLst>
                <a:gd name="textAreaLeft" fmla="*/ 230400 w 1571040"/>
                <a:gd name="textAreaRight" fmla="*/ 1340640 w 1571040"/>
                <a:gd name="textAreaTop" fmla="*/ 240120 h 1636560"/>
                <a:gd name="textAreaBottom" fmla="*/ 1396440 h 163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_s1030"/>
            <p:cNvSpPr/>
            <p:nvPr/>
          </p:nvSpPr>
          <p:spPr>
            <a:xfrm rot="14400000">
              <a:off x="5277240" y="3768840"/>
              <a:ext cx="1571400" cy="1636560"/>
            </a:xfrm>
            <a:custGeom>
              <a:avLst/>
              <a:gdLst>
                <a:gd name="textAreaLeft" fmla="*/ 230400 w 1571400"/>
                <a:gd name="textAreaRight" fmla="*/ 1341000 w 1571400"/>
                <a:gd name="textAreaTop" fmla="*/ 240120 h 1636560"/>
                <a:gd name="textAreaBottom" fmla="*/ 1396440 h 163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_s1031"/>
            <p:cNvSpPr/>
            <p:nvPr/>
          </p:nvSpPr>
          <p:spPr>
            <a:xfrm>
              <a:off x="6734520" y="371664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_s1032"/>
            <p:cNvSpPr/>
            <p:nvPr/>
          </p:nvSpPr>
          <p:spPr>
            <a:xfrm>
              <a:off x="5958000" y="500796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_s1033"/>
            <p:cNvSpPr/>
            <p:nvPr/>
          </p:nvSpPr>
          <p:spPr>
            <a:xfrm>
              <a:off x="5181480" y="371664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AutoShape 19"/>
          <p:cNvSpPr/>
          <p:nvPr/>
        </p:nvSpPr>
        <p:spPr>
          <a:xfrm flipH="1" rot="16200000">
            <a:off x="7657920" y="3009600"/>
            <a:ext cx="1066680" cy="533520"/>
          </a:xfrm>
          <a:custGeom>
            <a:avLst/>
            <a:gdLst>
              <a:gd name="textAreaLeft" fmla="*/ 166320 w 1066680"/>
              <a:gd name="textAreaRight" fmla="*/ 933120 w 10666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72C1-AF13-43A3-9C95-69DCC3938A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Традиционные средства для улучш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838080" y="1820520"/>
            <a:ext cx="83059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утренние ауди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ешняя оценка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ешний аудит и аккредитац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анализ руководство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озможности для улучше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69440"/>
            <a:ext cx="739944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тслеживание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0" name="Footer Placeholder 4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4F79-4437-4F53-985B-BA8959C382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AutoShape 30"/>
          <p:cNvSpPr/>
          <p:nvPr/>
        </p:nvSpPr>
        <p:spPr>
          <a:xfrm>
            <a:off x="380880" y="1143000"/>
            <a:ext cx="8229600" cy="1143000"/>
          </a:xfrm>
          <a:prstGeom prst="bevel">
            <a:avLst>
              <a:gd name="adj" fmla="val 12500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План по каче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AutoShape 31"/>
          <p:cNvSpPr/>
          <p:nvPr/>
        </p:nvSpPr>
        <p:spPr>
          <a:xfrm>
            <a:off x="152280" y="2743200"/>
            <a:ext cx="211608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утрен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у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AutoShape 32"/>
          <p:cNvSpPr/>
          <p:nvPr/>
        </p:nvSpPr>
        <p:spPr>
          <a:xfrm>
            <a:off x="2465280" y="2743200"/>
            <a:ext cx="198144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ш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у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AutoShape 34"/>
          <p:cNvSpPr/>
          <p:nvPr/>
        </p:nvSpPr>
        <p:spPr>
          <a:xfrm>
            <a:off x="6858000" y="2743200"/>
            <a:ext cx="205740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Oval 35"/>
          <p:cNvSpPr/>
          <p:nvPr/>
        </p:nvSpPr>
        <p:spPr>
          <a:xfrm>
            <a:off x="2255760" y="5257800"/>
            <a:ext cx="4525920" cy="114300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Цель по каче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36"/>
          <p:cNvSpPr/>
          <p:nvPr/>
        </p:nvSpPr>
        <p:spPr>
          <a:xfrm>
            <a:off x="838080" y="3581280"/>
            <a:ext cx="20574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37"/>
          <p:cNvSpPr/>
          <p:nvPr/>
        </p:nvSpPr>
        <p:spPr>
          <a:xfrm flipH="1">
            <a:off x="6324120" y="3581280"/>
            <a:ext cx="20574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38"/>
          <p:cNvSpPr/>
          <p:nvPr/>
        </p:nvSpPr>
        <p:spPr>
          <a:xfrm flipH="1">
            <a:off x="5486400" y="3581280"/>
            <a:ext cx="53352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39"/>
          <p:cNvSpPr/>
          <p:nvPr/>
        </p:nvSpPr>
        <p:spPr>
          <a:xfrm>
            <a:off x="3200400" y="3581280"/>
            <a:ext cx="45720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40"/>
          <p:cNvSpPr/>
          <p:nvPr/>
        </p:nvSpPr>
        <p:spPr>
          <a:xfrm>
            <a:off x="2895480" y="4038480"/>
            <a:ext cx="3429000" cy="914400"/>
          </a:xfrm>
          <a:prstGeom prst="hexagon">
            <a:avLst>
              <a:gd name="adj" fmla="val 93750"/>
              <a:gd name="vf" fmla="val 11547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озможности д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луч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41"/>
          <p:cNvSpPr/>
          <p:nvPr/>
        </p:nvSpPr>
        <p:spPr>
          <a:xfrm>
            <a:off x="4267080" y="495288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AutoShape 42"/>
          <p:cNvSpPr/>
          <p:nvPr/>
        </p:nvSpPr>
        <p:spPr>
          <a:xfrm>
            <a:off x="312408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AutoShape 43"/>
          <p:cNvSpPr/>
          <p:nvPr/>
        </p:nvSpPr>
        <p:spPr>
          <a:xfrm>
            <a:off x="533412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44"/>
          <p:cNvSpPr/>
          <p:nvPr/>
        </p:nvSpPr>
        <p:spPr>
          <a:xfrm>
            <a:off x="91440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45"/>
          <p:cNvSpPr/>
          <p:nvPr/>
        </p:nvSpPr>
        <p:spPr>
          <a:xfrm>
            <a:off x="754380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Content Placeholder 187458"/>
          <p:cNvGrpSpPr/>
          <p:nvPr/>
        </p:nvGrpSpPr>
        <p:grpSpPr>
          <a:xfrm>
            <a:off x="1520640" y="4267080"/>
            <a:ext cx="1988280" cy="1652760"/>
            <a:chOff x="1520640" y="4267080"/>
            <a:chExt cx="1988280" cy="1652760"/>
          </a:xfrm>
        </p:grpSpPr>
        <p:sp>
          <p:nvSpPr>
            <p:cNvPr id="909" name="_s2052"/>
            <p:cNvSpPr/>
            <p:nvPr/>
          </p:nvSpPr>
          <p:spPr>
            <a:xfrm>
              <a:off x="1893960" y="4267080"/>
              <a:ext cx="1241280" cy="1146960"/>
            </a:xfrm>
            <a:custGeom>
              <a:avLst/>
              <a:gdLst>
                <a:gd name="textAreaLeft" fmla="*/ 182160 w 1241280"/>
                <a:gd name="textAreaRight" fmla="*/ 1059120 w 1241280"/>
                <a:gd name="textAreaTop" fmla="*/ 168120 h 1146960"/>
                <a:gd name="textAreaBottom" fmla="*/ 978840 h 114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_s2053"/>
            <p:cNvSpPr/>
            <p:nvPr/>
          </p:nvSpPr>
          <p:spPr>
            <a:xfrm rot="7200000">
              <a:off x="2111040" y="4490640"/>
              <a:ext cx="1146960" cy="1241280"/>
            </a:xfrm>
            <a:custGeom>
              <a:avLst/>
              <a:gdLst>
                <a:gd name="textAreaLeft" fmla="*/ 168120 w 1146960"/>
                <a:gd name="textAreaRight" fmla="*/ 978840 w 114696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_s2054"/>
            <p:cNvSpPr/>
            <p:nvPr/>
          </p:nvSpPr>
          <p:spPr>
            <a:xfrm rot="14400000">
              <a:off x="1771200" y="4492080"/>
              <a:ext cx="1146960" cy="1241280"/>
            </a:xfrm>
            <a:custGeom>
              <a:avLst/>
              <a:gdLst>
                <a:gd name="textAreaLeft" fmla="*/ 168120 w 1146960"/>
                <a:gd name="textAreaRight" fmla="*/ 978840 w 114696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_s2055"/>
            <p:cNvSpPr/>
            <p:nvPr/>
          </p:nvSpPr>
          <p:spPr>
            <a:xfrm>
              <a:off x="2854440" y="447732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_s2056"/>
            <p:cNvSpPr/>
            <p:nvPr/>
          </p:nvSpPr>
          <p:spPr>
            <a:xfrm>
              <a:off x="2265480" y="541980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_s2057"/>
            <p:cNvSpPr/>
            <p:nvPr/>
          </p:nvSpPr>
          <p:spPr>
            <a:xfrm>
              <a:off x="1676520" y="447732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Content Placeholder 187448"/>
          <p:cNvGrpSpPr/>
          <p:nvPr/>
        </p:nvGrpSpPr>
        <p:grpSpPr>
          <a:xfrm>
            <a:off x="5947560" y="4343400"/>
            <a:ext cx="1897200" cy="1576080"/>
            <a:chOff x="5947560" y="4343400"/>
            <a:chExt cx="1897200" cy="1576080"/>
          </a:xfrm>
        </p:grpSpPr>
        <p:sp>
          <p:nvSpPr>
            <p:cNvPr id="916" name="_s2060"/>
            <p:cNvSpPr/>
            <p:nvPr/>
          </p:nvSpPr>
          <p:spPr>
            <a:xfrm>
              <a:off x="6303240" y="4343400"/>
              <a:ext cx="1184760" cy="1094040"/>
            </a:xfrm>
            <a:custGeom>
              <a:avLst/>
              <a:gdLst>
                <a:gd name="textAreaLeft" fmla="*/ 173520 w 1184760"/>
                <a:gd name="textAreaRight" fmla="*/ 1011240 w 1184760"/>
                <a:gd name="textAreaTop" fmla="*/ 160560 h 1094040"/>
                <a:gd name="textAreaBottom" fmla="*/ 933480 h 109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_s2061"/>
            <p:cNvSpPr/>
            <p:nvPr/>
          </p:nvSpPr>
          <p:spPr>
            <a:xfrm rot="7200000">
              <a:off x="6511320" y="4556160"/>
              <a:ext cx="1093680" cy="1185120"/>
            </a:xfrm>
            <a:custGeom>
              <a:avLst/>
              <a:gdLst>
                <a:gd name="textAreaLeft" fmla="*/ 160200 w 1093680"/>
                <a:gd name="textAreaRight" fmla="*/ 933480 w 1093680"/>
                <a:gd name="textAreaTop" fmla="*/ 173880 h 1185120"/>
                <a:gd name="textAreaBottom" fmla="*/ 1011240 h 118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_s2062"/>
            <p:cNvSpPr/>
            <p:nvPr/>
          </p:nvSpPr>
          <p:spPr>
            <a:xfrm rot="14400000">
              <a:off x="6186600" y="4556880"/>
              <a:ext cx="1094040" cy="1184760"/>
            </a:xfrm>
            <a:custGeom>
              <a:avLst/>
              <a:gdLst>
                <a:gd name="textAreaLeft" fmla="*/ 160560 w 1094040"/>
                <a:gd name="textAreaRight" fmla="*/ 933480 w 1094040"/>
                <a:gd name="textAreaTop" fmla="*/ 173520 h 1184760"/>
                <a:gd name="textAreaBottom" fmla="*/ 1011240 h 118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_s2063"/>
            <p:cNvSpPr/>
            <p:nvPr/>
          </p:nvSpPr>
          <p:spPr>
            <a:xfrm>
              <a:off x="7220520" y="454356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_s2064"/>
            <p:cNvSpPr/>
            <p:nvPr/>
          </p:nvSpPr>
          <p:spPr>
            <a:xfrm>
              <a:off x="6658200" y="544248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_s2065"/>
            <p:cNvSpPr/>
            <p:nvPr/>
          </p:nvSpPr>
          <p:spPr>
            <a:xfrm>
              <a:off x="6095880" y="454356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AutoShape 76"/>
          <p:cNvSpPr/>
          <p:nvPr/>
        </p:nvSpPr>
        <p:spPr>
          <a:xfrm>
            <a:off x="4641840" y="2743200"/>
            <a:ext cx="201924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честв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78"/>
          <p:cNvSpPr/>
          <p:nvPr/>
        </p:nvSpPr>
        <p:spPr>
          <a:xfrm>
            <a:off x="1371600" y="2411280"/>
            <a:ext cx="175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78"/>
          <p:cNvSpPr/>
          <p:nvPr/>
        </p:nvSpPr>
        <p:spPr>
          <a:xfrm>
            <a:off x="3600360" y="2411280"/>
            <a:ext cx="1752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78"/>
          <p:cNvSpPr/>
          <p:nvPr/>
        </p:nvSpPr>
        <p:spPr>
          <a:xfrm>
            <a:off x="5796000" y="2411280"/>
            <a:ext cx="175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9T13:55:49Z</dcterms:modified>
  <cp:revision>222</cp:revision>
  <dc:subject/>
  <dc:title>Slide 1</dc:title>
</cp:coreProperties>
</file>